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1.jpeg" ContentType="image/jpeg"/>
  <Override PartName="/ppt/media/image35.png" ContentType="image/png"/>
  <Override PartName="/ppt/media/image5.jpeg" ContentType="image/jpeg"/>
  <Override PartName="/ppt/media/image4.png" ContentType="image/png"/>
  <Override PartName="/ppt/media/image12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40.png" ContentType="image/png"/>
  <Override PartName="/ppt/media/image48.png" ContentType="image/png"/>
  <Override PartName="/ppt/media/image9.jpeg" ContentType="image/jpeg"/>
  <Override PartName="/ppt/media/image11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44.png" ContentType="image/pn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9857-4A69-4F86-B28A-31A5F37C7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465A-82AE-4AC3-911F-B847E693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4AF1-2A2E-4052-BBA8-8A5A5C29F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1906-28AB-4B93-B813-433223ABE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23B1-8AFC-484F-BD09-8A26796C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8F47-1AD6-4EFE-B62C-29FB58B6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F185-837D-484C-BD14-C14F1505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EE1E-52B5-4D96-95C0-D88B5C44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A239-08F2-4285-97ED-66DAB060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0FF6-75EE-4AF2-BB6F-0E25CB9A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0A7A-7CAF-44C8-9BEB-8EF66CFC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C24F-F63B-4901-A628-046EC487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EDEF8-F080-4069-BBAF-40F90E624F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2000" y="39528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 Narrow"/>
              </a:rPr>
              <a:t>*Série Dark’n’Luke*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0920" y="1763280"/>
            <a:ext cx="70563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rsion alchimie 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24000" y="2246400"/>
            <a:ext cx="885672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79640" y="0"/>
            <a:ext cx="8353440" cy="740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908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79640" y="276120"/>
            <a:ext cx="8137440" cy="70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6000" y="324000"/>
            <a:ext cx="9864720" cy="67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9120" y="973080"/>
            <a:ext cx="9579240" cy="57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0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00160" y="900000"/>
            <a:ext cx="9821880" cy="58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9360" y="1079640"/>
            <a:ext cx="1009620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344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1120" y="138240"/>
            <a:ext cx="8859600" cy="7416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47640" y="34920"/>
            <a:ext cx="8859960" cy="74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912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6000" y="74520"/>
            <a:ext cx="9504360" cy="74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404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miqueau blaise</cp:lastModifiedBy>
  <dcterms:modified xsi:type="dcterms:W3CDTF">2006-10-22T17:11:57Z</dcterms:modified>
  <cp:revision>4</cp:revision>
  <dc:subject/>
  <dc:title>Diapositive 1</dc:title>
</cp:coreProperties>
</file>