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45EF-C120-49A2-BA6A-C11CBDF39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6C72-0836-4A1D-8DE5-E5AB7236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8517-6C28-48B4-97FF-933B4E3BE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C899-B3ED-4DA1-A2AF-72DFFF8E1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7243-7F24-4961-ABD4-8466B2D9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A28D-C270-424A-8124-9AE776AD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84C2-F8A5-4692-9D6B-D23A12AF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387D-7186-4D28-AC37-A24B177E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D94C-2A25-4DBA-A711-C801D9B3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D204-73D4-45BD-BD77-11ED5F8E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6A6D-4C6B-482C-8F4F-177BA4EE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3F82-EB72-4AF7-9F35-C5C65602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80AD-900C-4863-8DC6-F08D134FE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mplete Maps of Werewolves In Lond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ten by Wai K L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 symbols information and colours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2590920"/>
            <a:ext cx="1600200" cy="30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p of Werewolves in Lond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12193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 of Town, Park and J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676520" y="3124080"/>
            <a:ext cx="533160" cy="304920"/>
            <a:chOff x="1676520" y="3124080"/>
            <a:chExt cx="533160" cy="304920"/>
          </a:xfrm>
        </p:grpSpPr>
        <p:sp>
          <p:nvSpPr>
            <p:cNvPr id="47" name=""/>
            <p:cNvSpPr/>
            <p:nvPr/>
          </p:nvSpPr>
          <p:spPr>
            <a:xfrm>
              <a:off x="1676520" y="31240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1904760" y="3200400"/>
              <a:ext cx="228240" cy="152280"/>
              <a:chOff x="1904760" y="3200400"/>
              <a:chExt cx="228240" cy="152280"/>
            </a:xfrm>
          </p:grpSpPr>
          <p:sp>
            <p:nvSpPr>
              <p:cNvPr id="49" name=""/>
              <p:cNvSpPr/>
              <p:nvPr/>
            </p:nvSpPr>
            <p:spPr>
              <a:xfrm>
                <a:off x="1936080" y="32004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904760" y="32763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" name=""/>
          <p:cNvGrpSpPr/>
          <p:nvPr/>
        </p:nvGrpSpPr>
        <p:grpSpPr>
          <a:xfrm>
            <a:off x="1676520" y="3733560"/>
            <a:ext cx="533160" cy="457560"/>
            <a:chOff x="1676520" y="3733560"/>
            <a:chExt cx="533160" cy="457560"/>
          </a:xfrm>
        </p:grpSpPr>
        <p:sp>
          <p:nvSpPr>
            <p:cNvPr id="52" name=""/>
            <p:cNvSpPr/>
            <p:nvPr/>
          </p:nvSpPr>
          <p:spPr>
            <a:xfrm>
              <a:off x="1676520" y="388620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2057040" y="3733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1676520" y="4495680"/>
            <a:ext cx="533160" cy="304920"/>
            <a:chOff x="1676520" y="4495680"/>
            <a:chExt cx="533160" cy="304920"/>
          </a:xfrm>
        </p:grpSpPr>
        <p:sp>
          <p:nvSpPr>
            <p:cNvPr id="55" name=""/>
            <p:cNvSpPr/>
            <p:nvPr/>
          </p:nvSpPr>
          <p:spPr>
            <a:xfrm>
              <a:off x="1676520" y="44956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52480" y="4648320"/>
              <a:ext cx="7560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676520" y="51055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5791320"/>
            <a:ext cx="5331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54040" y="3124080"/>
            <a:ext cx="403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with outside of Underground St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50800" y="3733920"/>
            <a:ext cx="6401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opened door, that takes you to roof. If two location have links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you can run and jump to other building (if you are wolf but not human!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54760" y="4495680"/>
            <a:ext cx="6206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gap metal, you need a cork screwdriver to open and enter it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54760" y="5105520"/>
            <a:ext cx="4836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item found, and you can pick for purpos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52960" y="5715000"/>
            <a:ext cx="5244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First Aid item, that help you to stop bleep fro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e police shoot at you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676520" y="3124080"/>
            <a:ext cx="533160" cy="304920"/>
            <a:chOff x="1676520" y="3124080"/>
            <a:chExt cx="533160" cy="304920"/>
          </a:xfrm>
        </p:grpSpPr>
        <p:sp>
          <p:nvSpPr>
            <p:cNvPr id="65" name=""/>
            <p:cNvSpPr/>
            <p:nvPr/>
          </p:nvSpPr>
          <p:spPr>
            <a:xfrm>
              <a:off x="1676520" y="31240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904760" y="3200400"/>
              <a:ext cx="228240" cy="152280"/>
              <a:chOff x="1904760" y="3200400"/>
              <a:chExt cx="228240" cy="152280"/>
            </a:xfrm>
          </p:grpSpPr>
          <p:sp>
            <p:nvSpPr>
              <p:cNvPr id="67" name=""/>
              <p:cNvSpPr/>
              <p:nvPr/>
            </p:nvSpPr>
            <p:spPr>
              <a:xfrm>
                <a:off x="1936080" y="32004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904760" y="32763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"/>
          <p:cNvSpPr/>
          <p:nvPr/>
        </p:nvSpPr>
        <p:spPr>
          <a:xfrm>
            <a:off x="8380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24382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24382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2057400"/>
            <a:ext cx="914400" cy="228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9051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54400" y="2209680"/>
            <a:ext cx="6314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will repeat while you walking across. This called LOOP locations!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391520" y="1600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05520" y="1219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533520"/>
            <a:ext cx="1600200" cy="30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838080"/>
            <a:ext cx="990720" cy="4648320"/>
          </a:xfrm>
          <a:prstGeom prst="line">
            <a:avLst/>
          </a:prstGeom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5740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410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12372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05320" y="46483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5029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57800" y="35809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867280" y="43430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91320" y="6172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19920" y="6553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41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2514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3124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1280" y="35053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3733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62920" y="37339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62920" y="3352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620120" y="320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3888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352680"/>
            <a:ext cx="30492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1880" y="3352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772400" y="3581280"/>
            <a:ext cx="533520" cy="457200"/>
            <a:chOff x="7772400" y="3581280"/>
            <a:chExt cx="533520" cy="457200"/>
          </a:xfrm>
        </p:grpSpPr>
        <p:sp>
          <p:nvSpPr>
            <p:cNvPr id="104" name=""/>
            <p:cNvSpPr/>
            <p:nvPr/>
          </p:nvSpPr>
          <p:spPr>
            <a:xfrm>
              <a:off x="7772400" y="3733920"/>
              <a:ext cx="533520" cy="304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229600" y="35812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848720" y="3886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 flipV="1">
            <a:off x="8534520" y="320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610480" y="3429000"/>
            <a:ext cx="228600" cy="152280"/>
            <a:chOff x="8610480" y="3429000"/>
            <a:chExt cx="228600" cy="152280"/>
          </a:xfrm>
        </p:grpSpPr>
        <p:sp>
          <p:nvSpPr>
            <p:cNvPr id="109" name=""/>
            <p:cNvSpPr/>
            <p:nvPr/>
          </p:nvSpPr>
          <p:spPr>
            <a:xfrm>
              <a:off x="8642160" y="34290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10480" y="3504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 flipV="1">
            <a:off x="762012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53452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8229600" y="3047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29600" y="3048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352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3352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3352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3352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297180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09880" y="2819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3124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297180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2590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343400" y="2209680"/>
            <a:ext cx="533520" cy="304920"/>
            <a:chOff x="4343400" y="2209680"/>
            <a:chExt cx="533520" cy="304920"/>
          </a:xfrm>
        </p:grpSpPr>
        <p:sp>
          <p:nvSpPr>
            <p:cNvPr id="126" name=""/>
            <p:cNvSpPr/>
            <p:nvPr/>
          </p:nvSpPr>
          <p:spPr>
            <a:xfrm>
              <a:off x="4343400" y="2209680"/>
              <a:ext cx="53352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4572000" y="2286000"/>
              <a:ext cx="228600" cy="152280"/>
              <a:chOff x="4572000" y="2286000"/>
              <a:chExt cx="228600" cy="152280"/>
            </a:xfrm>
          </p:grpSpPr>
          <p:sp>
            <p:nvSpPr>
              <p:cNvPr id="128" name=""/>
              <p:cNvSpPr/>
              <p:nvPr/>
            </p:nvSpPr>
            <p:spPr>
              <a:xfrm>
                <a:off x="4603680" y="22860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72000" y="23619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"/>
          <p:cNvSpPr/>
          <p:nvPr/>
        </p:nvSpPr>
        <p:spPr>
          <a:xfrm>
            <a:off x="5029200" y="2209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2743200"/>
            <a:ext cx="1295640" cy="228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8640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90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590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52680" y="2971800"/>
            <a:ext cx="30492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876920" y="31240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3848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038480" y="2057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2057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53080" y="2057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62720" y="23623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124080" y="182880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18288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18288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3733920"/>
            <a:ext cx="5335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4114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411480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4495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449568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33920" y="449568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72200" y="4495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4876920"/>
            <a:ext cx="5335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4876920"/>
            <a:ext cx="5331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52880" y="5257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62720" y="525780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2880" y="5638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uts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563868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6019920"/>
            <a:ext cx="5331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62720" y="640080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6400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81680" y="6400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91320" y="6553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10280" y="6248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72200" y="6019920"/>
            <a:ext cx="114300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81680" y="6400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733920" y="4876920"/>
            <a:ext cx="533160" cy="304560"/>
            <a:chOff x="3733920" y="4876920"/>
            <a:chExt cx="533160" cy="304560"/>
          </a:xfrm>
        </p:grpSpPr>
        <p:sp>
          <p:nvSpPr>
            <p:cNvPr id="168" name=""/>
            <p:cNvSpPr/>
            <p:nvPr/>
          </p:nvSpPr>
          <p:spPr>
            <a:xfrm>
              <a:off x="3733920" y="4876920"/>
              <a:ext cx="533160" cy="304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4190760" y="4952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09880" y="5029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276720" y="4876920"/>
            <a:ext cx="38088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352680" y="5334120"/>
            <a:ext cx="228600" cy="152280"/>
            <a:chOff x="3352680" y="5334120"/>
            <a:chExt cx="228600" cy="152280"/>
          </a:xfrm>
        </p:grpSpPr>
        <p:sp>
          <p:nvSpPr>
            <p:cNvPr id="173" name=""/>
            <p:cNvSpPr/>
            <p:nvPr/>
          </p:nvSpPr>
          <p:spPr>
            <a:xfrm>
              <a:off x="3384360" y="5334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52680" y="5410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2666880" y="525780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o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4876920"/>
            <a:ext cx="3812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52480" y="4495680"/>
            <a:ext cx="3812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743200" y="46483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33720" y="4572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514240" y="45720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48320" y="4343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43400" y="4114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3400" y="4495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76920"/>
            <a:ext cx="5335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91680" y="220968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0480" y="403848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15320" y="556272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5867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48320" y="6477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257800" y="5943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43400" y="6019920"/>
            <a:ext cx="533520" cy="304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43400" y="5638680"/>
            <a:ext cx="5335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5791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58672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6324480"/>
            <a:ext cx="5335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54100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7240" y="5410080"/>
            <a:ext cx="625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ow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6880" y="5867280"/>
            <a:ext cx="531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ar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6520" y="6324480"/>
            <a:ext cx="446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ai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8128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03848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57600" y="1219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65760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648320" y="5486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685800"/>
            <a:ext cx="38088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876920" y="1143000"/>
            <a:ext cx="228600" cy="152280"/>
            <a:chOff x="4876920" y="1143000"/>
            <a:chExt cx="228600" cy="152280"/>
          </a:xfrm>
        </p:grpSpPr>
        <p:sp>
          <p:nvSpPr>
            <p:cNvPr id="208" name=""/>
            <p:cNvSpPr/>
            <p:nvPr/>
          </p:nvSpPr>
          <p:spPr>
            <a:xfrm>
              <a:off x="4908600" y="11430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76920" y="1218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525780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685800"/>
            <a:ext cx="3812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2448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34320" y="1066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934320" y="14479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cr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7543800" y="1447920"/>
            <a:ext cx="533520" cy="304560"/>
            <a:chOff x="7543800" y="1447920"/>
            <a:chExt cx="533520" cy="304560"/>
          </a:xfrm>
        </p:grpSpPr>
        <p:sp>
          <p:nvSpPr>
            <p:cNvPr id="216" name=""/>
            <p:cNvSpPr/>
            <p:nvPr/>
          </p:nvSpPr>
          <p:spPr>
            <a:xfrm>
              <a:off x="7543800" y="1447920"/>
              <a:ext cx="533520" cy="304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8001000" y="1523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20120" y="1600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09480" y="1219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60948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1219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52480" y="838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742840" y="1219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35268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52680" y="1219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14600" y="685800"/>
            <a:ext cx="38088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05120" y="68580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209680" y="380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81080" y="838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09680" y="380880"/>
            <a:ext cx="563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78487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848720" y="380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447920" y="685800"/>
            <a:ext cx="380880" cy="685800"/>
            <a:chOff x="1447920" y="685800"/>
            <a:chExt cx="380880" cy="685800"/>
          </a:xfrm>
        </p:grpSpPr>
        <p:sp>
          <p:nvSpPr>
            <p:cNvPr id="237" name=""/>
            <p:cNvSpPr/>
            <p:nvPr/>
          </p:nvSpPr>
          <p:spPr>
            <a:xfrm>
              <a:off x="1447920" y="685800"/>
              <a:ext cx="38088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1523880" y="1143000"/>
              <a:ext cx="228600" cy="152280"/>
              <a:chOff x="1523880" y="1143000"/>
              <a:chExt cx="228600" cy="152280"/>
            </a:xfrm>
          </p:grpSpPr>
          <p:sp>
            <p:nvSpPr>
              <p:cNvPr id="239" name=""/>
              <p:cNvSpPr/>
              <p:nvPr/>
            </p:nvSpPr>
            <p:spPr>
              <a:xfrm>
                <a:off x="1555560" y="11430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523880" y="12189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"/>
          <p:cNvSpPr/>
          <p:nvPr/>
        </p:nvSpPr>
        <p:spPr>
          <a:xfrm>
            <a:off x="381600" y="53352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53800" y="68580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647960" y="533520"/>
            <a:ext cx="1752840" cy="304560"/>
            <a:chOff x="4647960" y="533520"/>
            <a:chExt cx="1752840" cy="304560"/>
          </a:xfrm>
        </p:grpSpPr>
        <p:sp>
          <p:nvSpPr>
            <p:cNvPr id="244" name=""/>
            <p:cNvSpPr/>
            <p:nvPr/>
          </p:nvSpPr>
          <p:spPr>
            <a:xfrm>
              <a:off x="6400800" y="533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4647960" y="838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4648320" y="533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48320" y="5335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6248160" y="838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714640" y="228600"/>
            <a:ext cx="1905480" cy="990720"/>
            <a:chOff x="5714640" y="228600"/>
            <a:chExt cx="1905480" cy="990720"/>
          </a:xfrm>
        </p:grpSpPr>
        <p:sp>
          <p:nvSpPr>
            <p:cNvPr id="250" name=""/>
            <p:cNvSpPr/>
            <p:nvPr/>
          </p:nvSpPr>
          <p:spPr>
            <a:xfrm flipH="1">
              <a:off x="5714640" y="8380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15000" y="22860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15000" y="228600"/>
              <a:ext cx="1905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7467480" y="121932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7620120" y="228600"/>
              <a:ext cx="0" cy="9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 flipV="1">
            <a:off x="3352680" y="60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609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038480" y="60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609480" y="914400"/>
            <a:ext cx="320040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2057040" y="2743200"/>
            <a:ext cx="213372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609480" y="2742840"/>
            <a:ext cx="1774080" cy="838440"/>
            <a:chOff x="609480" y="2742840"/>
            <a:chExt cx="1774080" cy="838440"/>
          </a:xfrm>
        </p:grpSpPr>
        <p:sp>
          <p:nvSpPr>
            <p:cNvPr id="261" name=""/>
            <p:cNvSpPr/>
            <p:nvPr/>
          </p:nvSpPr>
          <p:spPr>
            <a:xfrm>
              <a:off x="762120" y="304812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990720" y="2743200"/>
              <a:ext cx="533160" cy="457200"/>
              <a:chOff x="990720" y="2743200"/>
              <a:chExt cx="533160" cy="457200"/>
            </a:xfrm>
          </p:grpSpPr>
          <p:sp>
            <p:nvSpPr>
              <p:cNvPr id="263" name=""/>
              <p:cNvSpPr/>
              <p:nvPr/>
            </p:nvSpPr>
            <p:spPr>
              <a:xfrm>
                <a:off x="990720" y="289584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1447560" y="27432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066680" y="3048120"/>
                <a:ext cx="7560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1600200" y="2742840"/>
              <a:ext cx="533520" cy="457560"/>
              <a:chOff x="1600200" y="2742840"/>
              <a:chExt cx="533520" cy="457560"/>
            </a:xfrm>
          </p:grpSpPr>
          <p:sp>
            <p:nvSpPr>
              <p:cNvPr id="267" name=""/>
              <p:cNvSpPr/>
              <p:nvPr/>
            </p:nvSpPr>
            <p:spPr>
              <a:xfrm>
                <a:off x="1600200" y="2895480"/>
                <a:ext cx="533520" cy="3049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2057400" y="27428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05120" y="30481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 flipH="1">
              <a:off x="83772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990720" y="3276720"/>
              <a:ext cx="533160" cy="304560"/>
              <a:chOff x="990720" y="3276720"/>
              <a:chExt cx="533160" cy="304560"/>
            </a:xfrm>
          </p:grpSpPr>
          <p:sp>
            <p:nvSpPr>
              <p:cNvPr id="272" name=""/>
              <p:cNvSpPr/>
              <p:nvPr/>
            </p:nvSpPr>
            <p:spPr>
              <a:xfrm>
                <a:off x="990720" y="327672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1447560" y="33526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066680" y="3429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609480" y="289548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447920" y="2743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47920" y="3352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676520" y="27432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76880" y="3200400"/>
              <a:ext cx="7066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Zone 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720" y="49528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K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762120" y="4800600"/>
            <a:ext cx="1295280" cy="304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905120" y="5943600"/>
            <a:ext cx="4419360" cy="5335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114800" y="837720"/>
            <a:ext cx="4572000" cy="1999080"/>
            <a:chOff x="4114800" y="837720"/>
            <a:chExt cx="4572000" cy="1999080"/>
          </a:xfrm>
        </p:grpSpPr>
        <p:sp>
          <p:nvSpPr>
            <p:cNvPr id="284" name=""/>
            <p:cNvSpPr/>
            <p:nvPr/>
          </p:nvSpPr>
          <p:spPr>
            <a:xfrm>
              <a:off x="4267080" y="2209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67080" y="2514600"/>
              <a:ext cx="426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4952880" y="1523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952880" y="152388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95680" y="20574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14800" y="20574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01000" y="15238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01000" y="22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381880" y="20574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5486400" y="1219320"/>
              <a:ext cx="2133720" cy="838080"/>
              <a:chOff x="5486400" y="1219320"/>
              <a:chExt cx="2133720" cy="838080"/>
            </a:xfrm>
          </p:grpSpPr>
          <p:grpSp>
            <p:nvGrpSpPr>
              <p:cNvPr id="294" name=""/>
              <p:cNvGrpSpPr/>
              <p:nvPr/>
            </p:nvGrpSpPr>
            <p:grpSpPr>
              <a:xfrm>
                <a:off x="7086600" y="1600200"/>
                <a:ext cx="533520" cy="457200"/>
                <a:chOff x="7086600" y="1600200"/>
                <a:chExt cx="533520" cy="45720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7086600" y="1752840"/>
                  <a:ext cx="533520" cy="3045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V="1">
                  <a:off x="7543800" y="160020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7162920" y="1905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8" name=""/>
              <p:cNvSpPr/>
              <p:nvPr/>
            </p:nvSpPr>
            <p:spPr>
              <a:xfrm>
                <a:off x="6477120" y="175284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095880" y="1371600"/>
                <a:ext cx="304920" cy="6858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5486400" y="1219320"/>
                <a:ext cx="533520" cy="457200"/>
                <a:chOff x="5486400" y="1219320"/>
                <a:chExt cx="533520" cy="45720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5486400" y="1371960"/>
                  <a:ext cx="533520" cy="3045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V="1">
                  <a:off x="5943600" y="12193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562720" y="15242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4" name=""/>
            <p:cNvGrpSpPr/>
            <p:nvPr/>
          </p:nvGrpSpPr>
          <p:grpSpPr>
            <a:xfrm>
              <a:off x="5943600" y="837720"/>
              <a:ext cx="1600200" cy="762120"/>
              <a:chOff x="5943600" y="837720"/>
              <a:chExt cx="1600200" cy="762120"/>
            </a:xfrm>
          </p:grpSpPr>
          <p:sp>
            <p:nvSpPr>
              <p:cNvPr id="305" name=""/>
              <p:cNvSpPr/>
              <p:nvPr/>
            </p:nvSpPr>
            <p:spPr>
              <a:xfrm flipV="1">
                <a:off x="5943600" y="837720"/>
                <a:ext cx="0" cy="381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7543800" y="837720"/>
                <a:ext cx="0" cy="762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943600" y="838080"/>
                <a:ext cx="1600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6171840" y="2514600"/>
              <a:ext cx="14896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Secret of Zone 8!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57200" y="457200"/>
            <a:ext cx="3200400" cy="3063960"/>
            <a:chOff x="457200" y="457200"/>
            <a:chExt cx="3200400" cy="3063960"/>
          </a:xfrm>
        </p:grpSpPr>
        <p:sp>
          <p:nvSpPr>
            <p:cNvPr id="310" name=""/>
            <p:cNvSpPr/>
            <p:nvPr/>
          </p:nvSpPr>
          <p:spPr>
            <a:xfrm>
              <a:off x="2514600" y="14479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213372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7200" y="1600200"/>
              <a:ext cx="30456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95280" y="16002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76160" y="1981080"/>
              <a:ext cx="53352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86000" y="19810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286000" y="160020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352680" y="16002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1142640" y="914400"/>
              <a:ext cx="1905120" cy="838080"/>
              <a:chOff x="1142640" y="914400"/>
              <a:chExt cx="1905120" cy="838080"/>
            </a:xfrm>
          </p:grpSpPr>
          <p:grpSp>
            <p:nvGrpSpPr>
              <p:cNvPr id="319" name=""/>
              <p:cNvGrpSpPr/>
              <p:nvPr/>
            </p:nvGrpSpPr>
            <p:grpSpPr>
              <a:xfrm>
                <a:off x="1142640" y="914400"/>
                <a:ext cx="1905120" cy="838080"/>
                <a:chOff x="1142640" y="914400"/>
                <a:chExt cx="1905120" cy="838080"/>
              </a:xfrm>
            </p:grpSpPr>
            <p:sp>
              <p:nvSpPr>
                <p:cNvPr id="320" name=""/>
                <p:cNvSpPr/>
                <p:nvPr/>
              </p:nvSpPr>
              <p:spPr>
                <a:xfrm flipH="1">
                  <a:off x="1142640" y="1752480"/>
                  <a:ext cx="152280" cy="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V="1">
                  <a:off x="1143000" y="914400"/>
                  <a:ext cx="0" cy="83808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143000" y="914400"/>
                  <a:ext cx="1904760" cy="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047760" y="914400"/>
                  <a:ext cx="0" cy="45720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4" name=""/>
              <p:cNvSpPr/>
              <p:nvPr/>
            </p:nvSpPr>
            <p:spPr>
              <a:xfrm>
                <a:off x="2819160" y="1371600"/>
                <a:ext cx="2282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1600200" y="457200"/>
              <a:ext cx="1752120" cy="1295280"/>
              <a:chOff x="1600200" y="457200"/>
              <a:chExt cx="1752120" cy="1295280"/>
            </a:xfrm>
          </p:grpSpPr>
          <p:sp>
            <p:nvSpPr>
              <p:cNvPr id="326" name=""/>
              <p:cNvSpPr/>
              <p:nvPr/>
            </p:nvSpPr>
            <p:spPr>
              <a:xfrm>
                <a:off x="1600200" y="1752480"/>
                <a:ext cx="304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1904760" y="457200"/>
                <a:ext cx="0" cy="1295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904760" y="457200"/>
                <a:ext cx="1294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200040" y="457200"/>
                <a:ext cx="0" cy="1295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040" y="1752480"/>
                <a:ext cx="15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761760" y="1371600"/>
              <a:ext cx="1981080" cy="304560"/>
              <a:chOff x="761760" y="1371600"/>
              <a:chExt cx="1981080" cy="304560"/>
            </a:xfrm>
          </p:grpSpPr>
          <p:sp>
            <p:nvSpPr>
              <p:cNvPr id="332" name=""/>
              <p:cNvSpPr/>
              <p:nvPr/>
            </p:nvSpPr>
            <p:spPr>
              <a:xfrm flipV="1">
                <a:off x="761760" y="1371600"/>
                <a:ext cx="22860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990360" y="1371600"/>
                <a:ext cx="1752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2286000" y="1219320"/>
              <a:ext cx="533160" cy="304560"/>
              <a:chOff x="2286000" y="1219320"/>
              <a:chExt cx="533160" cy="304560"/>
            </a:xfrm>
          </p:grpSpPr>
          <p:sp>
            <p:nvSpPr>
              <p:cNvPr id="335" name=""/>
              <p:cNvSpPr/>
              <p:nvPr/>
            </p:nvSpPr>
            <p:spPr>
              <a:xfrm>
                <a:off x="2286000" y="121932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6" name=""/>
              <p:cNvGrpSpPr/>
              <p:nvPr/>
            </p:nvGrpSpPr>
            <p:grpSpPr>
              <a:xfrm>
                <a:off x="2514240" y="1295280"/>
                <a:ext cx="228240" cy="151920"/>
                <a:chOff x="2514240" y="1295280"/>
                <a:chExt cx="228240" cy="1519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2545560" y="1295280"/>
                  <a:ext cx="152280" cy="151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514240" y="1370880"/>
                  <a:ext cx="228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9" name=""/>
            <p:cNvSpPr/>
            <p:nvPr/>
          </p:nvSpPr>
          <p:spPr>
            <a:xfrm>
              <a:off x="457200" y="2286000"/>
              <a:ext cx="312408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Zone 6 - this town looks like Zone 2, but be careful between Zones 6 and 2! These colour lines help you understand which each location links to the next location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34600" y="403848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1560" y="4419720"/>
            <a:ext cx="4444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ach station is whole of platform, not parts of platform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59436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0" y="57150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657600" y="57150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029200" y="57150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52480" y="51814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144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6576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0292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8640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90720" y="5029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2320" y="5029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733920" y="5029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867280" y="5029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362320" y="5791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3920" y="5791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105520" y="5791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7796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04956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42116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03064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92760" y="563868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21160" y="563868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49560" y="563868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p of Werewolves in Lond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219320" y="1218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 of Tunnel Ma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743200" y="1905120"/>
            <a:ext cx="456840" cy="304200"/>
            <a:chOff x="2743200" y="1905120"/>
            <a:chExt cx="456840" cy="304200"/>
          </a:xfrm>
        </p:grpSpPr>
        <p:sp>
          <p:nvSpPr>
            <p:cNvPr id="369" name=""/>
            <p:cNvSpPr/>
            <p:nvPr/>
          </p:nvSpPr>
          <p:spPr>
            <a:xfrm>
              <a:off x="2806200" y="1905120"/>
              <a:ext cx="304920" cy="304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743200" y="2056680"/>
              <a:ext cx="45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3886200" y="1905120"/>
            <a:ext cx="4114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side Underground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ink between Lo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ne Way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oop Between Locations (Blue 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ocation have tunnel (you can en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If you see tunnel with numbe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hat takes you to outside by Zone numb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362320" y="2590920"/>
            <a:ext cx="1294920" cy="532800"/>
            <a:chOff x="2362320" y="2590920"/>
            <a:chExt cx="1294920" cy="532800"/>
          </a:xfrm>
        </p:grpSpPr>
        <p:sp>
          <p:nvSpPr>
            <p:cNvPr id="373" name=""/>
            <p:cNvSpPr/>
            <p:nvPr/>
          </p:nvSpPr>
          <p:spPr>
            <a:xfrm>
              <a:off x="2590560" y="2743200"/>
              <a:ext cx="15228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362320" y="281916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352680" y="2743200"/>
              <a:ext cx="15192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124080" y="281916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666880" y="259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29000" y="259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2666880" y="25909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2362320" y="3352320"/>
            <a:ext cx="1294920" cy="686160"/>
            <a:chOff x="2362320" y="3352320"/>
            <a:chExt cx="1294920" cy="686160"/>
          </a:xfrm>
        </p:grpSpPr>
        <p:sp>
          <p:nvSpPr>
            <p:cNvPr id="381" name=""/>
            <p:cNvSpPr/>
            <p:nvPr/>
          </p:nvSpPr>
          <p:spPr>
            <a:xfrm>
              <a:off x="2590560" y="36576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362320" y="373356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52680" y="365760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124080" y="373356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429000" y="3352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2666880" y="33526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2666880" y="33523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3124080" y="5562720"/>
            <a:ext cx="533160" cy="380520"/>
            <a:chOff x="3124080" y="5562720"/>
            <a:chExt cx="533160" cy="380520"/>
          </a:xfrm>
        </p:grpSpPr>
        <p:sp>
          <p:nvSpPr>
            <p:cNvPr id="389" name=""/>
            <p:cNvSpPr/>
            <p:nvPr/>
          </p:nvSpPr>
          <p:spPr>
            <a:xfrm>
              <a:off x="3352680" y="5562720"/>
              <a:ext cx="152280" cy="228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124080" y="563868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1905120" y="5562720"/>
            <a:ext cx="533160" cy="380520"/>
            <a:chOff x="1905120" y="5562720"/>
            <a:chExt cx="533160" cy="380520"/>
          </a:xfrm>
        </p:grpSpPr>
        <p:sp>
          <p:nvSpPr>
            <p:cNvPr id="392" name=""/>
            <p:cNvSpPr/>
            <p:nvPr/>
          </p:nvSpPr>
          <p:spPr>
            <a:xfrm>
              <a:off x="2133360" y="5562720"/>
              <a:ext cx="15228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905120" y="563868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914400" y="4495680"/>
            <a:ext cx="2743200" cy="457200"/>
            <a:chOff x="914400" y="4495680"/>
            <a:chExt cx="2743200" cy="457200"/>
          </a:xfrm>
        </p:grpSpPr>
        <p:grpSp>
          <p:nvGrpSpPr>
            <p:cNvPr id="395" name=""/>
            <p:cNvGrpSpPr/>
            <p:nvPr/>
          </p:nvGrpSpPr>
          <p:grpSpPr>
            <a:xfrm>
              <a:off x="2286000" y="4495680"/>
              <a:ext cx="1371600" cy="457200"/>
              <a:chOff x="2286000" y="4495680"/>
              <a:chExt cx="1371600" cy="457200"/>
            </a:xfrm>
          </p:grpSpPr>
          <p:sp>
            <p:nvSpPr>
              <p:cNvPr id="396" name=""/>
              <p:cNvSpPr/>
              <p:nvPr/>
            </p:nvSpPr>
            <p:spPr>
              <a:xfrm>
                <a:off x="2286000" y="4647960"/>
                <a:ext cx="1143000" cy="30492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2743200" y="4647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361960" y="4495680"/>
                <a:ext cx="5335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124080" y="4495680"/>
                <a:ext cx="5335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819160" y="4952880"/>
                <a:ext cx="1526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914400" y="4495680"/>
              <a:ext cx="838080" cy="457200"/>
              <a:chOff x="914400" y="4495680"/>
              <a:chExt cx="838080" cy="457200"/>
            </a:xfrm>
          </p:grpSpPr>
          <p:sp>
            <p:nvSpPr>
              <p:cNvPr id="402" name=""/>
              <p:cNvSpPr/>
              <p:nvPr/>
            </p:nvSpPr>
            <p:spPr>
              <a:xfrm>
                <a:off x="914400" y="4648320"/>
                <a:ext cx="838080" cy="30456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066680" y="4495680"/>
                <a:ext cx="5335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829160" y="44956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2514600" y="5486400"/>
            <a:ext cx="1828800" cy="380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0880" y="5486400"/>
            <a:ext cx="1828800" cy="380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990720" y="5486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124080" y="5486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533520" y="3962520"/>
            <a:ext cx="533160" cy="457200"/>
            <a:chOff x="533520" y="3962520"/>
            <a:chExt cx="533160" cy="457200"/>
          </a:xfrm>
        </p:grpSpPr>
        <p:sp>
          <p:nvSpPr>
            <p:cNvPr id="410" name=""/>
            <p:cNvSpPr/>
            <p:nvPr/>
          </p:nvSpPr>
          <p:spPr>
            <a:xfrm>
              <a:off x="685800" y="419112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3520" y="39625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228600" y="228600"/>
            <a:ext cx="28954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N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990720" y="44197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33920" y="12193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505320"/>
            <a:ext cx="38862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5105520" y="3885840"/>
            <a:ext cx="3429000" cy="2438640"/>
            <a:chOff x="5105520" y="3885840"/>
            <a:chExt cx="3429000" cy="2438640"/>
          </a:xfrm>
        </p:grpSpPr>
        <p:sp>
          <p:nvSpPr>
            <p:cNvPr id="417" name=""/>
            <p:cNvSpPr/>
            <p:nvPr/>
          </p:nvSpPr>
          <p:spPr>
            <a:xfrm>
              <a:off x="6477120" y="54864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48720" y="43434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19920" y="43434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777240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6553080" y="4495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716292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315200" y="4267080"/>
              <a:ext cx="152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5438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239240" y="434340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8580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9400" y="43434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629400" y="403848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6953400" y="4083120"/>
              <a:ext cx="228600" cy="152280"/>
              <a:chOff x="6953400" y="4083120"/>
              <a:chExt cx="228600" cy="152280"/>
            </a:xfrm>
          </p:grpSpPr>
          <p:sp>
            <p:nvSpPr>
              <p:cNvPr id="430" name=""/>
              <p:cNvSpPr/>
              <p:nvPr/>
            </p:nvSpPr>
            <p:spPr>
              <a:xfrm>
                <a:off x="6985080" y="40831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953400" y="41590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7378920" y="403236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7702560" y="4076640"/>
              <a:ext cx="228600" cy="152280"/>
              <a:chOff x="7702560" y="4076640"/>
              <a:chExt cx="228600" cy="152280"/>
            </a:xfrm>
          </p:grpSpPr>
          <p:sp>
            <p:nvSpPr>
              <p:cNvPr id="434" name=""/>
              <p:cNvSpPr/>
              <p:nvPr/>
            </p:nvSpPr>
            <p:spPr>
              <a:xfrm>
                <a:off x="7734240" y="407664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702560" y="41526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52578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4864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81840" y="434340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391520" y="4114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62720" y="4114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7391520" y="3885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5562720" y="38858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562720" y="38862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105520" y="403848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01000" y="53341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019920" y="53341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858000" y="52578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629400" y="502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629400" y="53341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467840" y="52578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23924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7562880" y="5073480"/>
              <a:ext cx="228600" cy="152280"/>
              <a:chOff x="7562880" y="5073480"/>
              <a:chExt cx="228600" cy="152280"/>
            </a:xfrm>
          </p:grpSpPr>
          <p:sp>
            <p:nvSpPr>
              <p:cNvPr id="453" name=""/>
              <p:cNvSpPr/>
              <p:nvPr/>
            </p:nvSpPr>
            <p:spPr>
              <a:xfrm>
                <a:off x="7594560" y="50734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562880" y="51494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7239240" y="533412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715000" y="44956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867640" y="44956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867640" y="487692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848720" y="48769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848720" y="5410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181840" y="571500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ONES 3 and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838080" y="762120"/>
            <a:ext cx="533520" cy="457200"/>
            <a:chOff x="838080" y="762120"/>
            <a:chExt cx="533520" cy="457200"/>
          </a:xfrm>
        </p:grpSpPr>
        <p:sp>
          <p:nvSpPr>
            <p:cNvPr id="463" name=""/>
            <p:cNvSpPr/>
            <p:nvPr/>
          </p:nvSpPr>
          <p:spPr>
            <a:xfrm>
              <a:off x="990720" y="99072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38080" y="76212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1447920" y="762120"/>
            <a:ext cx="552240" cy="457200"/>
            <a:chOff x="1447920" y="762120"/>
            <a:chExt cx="552240" cy="457200"/>
          </a:xfrm>
        </p:grpSpPr>
        <p:sp>
          <p:nvSpPr>
            <p:cNvPr id="466" name=""/>
            <p:cNvSpPr/>
            <p:nvPr/>
          </p:nvSpPr>
          <p:spPr>
            <a:xfrm>
              <a:off x="1676520" y="99072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47920" y="7621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1771560" y="806400"/>
              <a:ext cx="228600" cy="152280"/>
              <a:chOff x="1771560" y="806400"/>
              <a:chExt cx="228600" cy="152280"/>
            </a:xfrm>
          </p:grpSpPr>
          <p:sp>
            <p:nvSpPr>
              <p:cNvPr id="469" name=""/>
              <p:cNvSpPr/>
              <p:nvPr/>
            </p:nvSpPr>
            <p:spPr>
              <a:xfrm>
                <a:off x="1803240" y="8064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771560" y="8823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1" name=""/>
          <p:cNvSpPr/>
          <p:nvPr/>
        </p:nvSpPr>
        <p:spPr>
          <a:xfrm>
            <a:off x="2133720" y="99072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905120" y="762120"/>
            <a:ext cx="53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228760" y="806400"/>
            <a:ext cx="228600" cy="152280"/>
            <a:chOff x="2228760" y="806400"/>
            <a:chExt cx="228600" cy="152280"/>
          </a:xfrm>
        </p:grpSpPr>
        <p:sp>
          <p:nvSpPr>
            <p:cNvPr id="474" name=""/>
            <p:cNvSpPr/>
            <p:nvPr/>
          </p:nvSpPr>
          <p:spPr>
            <a:xfrm>
              <a:off x="2260440" y="806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228760" y="882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12952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838080" y="1066680"/>
            <a:ext cx="1600200" cy="304920"/>
            <a:chOff x="838080" y="1066680"/>
            <a:chExt cx="1600200" cy="304920"/>
          </a:xfrm>
        </p:grpSpPr>
        <p:sp>
          <p:nvSpPr>
            <p:cNvPr id="478" name=""/>
            <p:cNvSpPr/>
            <p:nvPr/>
          </p:nvSpPr>
          <p:spPr>
            <a:xfrm>
              <a:off x="1600200" y="1066680"/>
              <a:ext cx="8380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38080" y="106668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533520" y="1219320"/>
            <a:ext cx="2209680" cy="457200"/>
            <a:chOff x="533520" y="1219320"/>
            <a:chExt cx="2209680" cy="457200"/>
          </a:xfrm>
        </p:grpSpPr>
        <p:grpSp>
          <p:nvGrpSpPr>
            <p:cNvPr id="481" name=""/>
            <p:cNvGrpSpPr/>
            <p:nvPr/>
          </p:nvGrpSpPr>
          <p:grpSpPr>
            <a:xfrm>
              <a:off x="533520" y="1219320"/>
              <a:ext cx="2209680" cy="457200"/>
              <a:chOff x="533520" y="1219320"/>
              <a:chExt cx="2209680" cy="457200"/>
            </a:xfrm>
          </p:grpSpPr>
          <p:sp>
            <p:nvSpPr>
              <p:cNvPr id="482" name=""/>
              <p:cNvSpPr/>
              <p:nvPr/>
            </p:nvSpPr>
            <p:spPr>
              <a:xfrm flipH="1">
                <a:off x="533520" y="1219320"/>
                <a:ext cx="3045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3352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3520" y="1676520"/>
                <a:ext cx="22096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274320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 flipH="1">
              <a:off x="2437920" y="1219320"/>
              <a:ext cx="304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3505320" y="762120"/>
            <a:ext cx="552240" cy="457200"/>
            <a:chOff x="3505320" y="762120"/>
            <a:chExt cx="552240" cy="457200"/>
          </a:xfrm>
        </p:grpSpPr>
        <p:sp>
          <p:nvSpPr>
            <p:cNvPr id="488" name=""/>
            <p:cNvSpPr/>
            <p:nvPr/>
          </p:nvSpPr>
          <p:spPr>
            <a:xfrm>
              <a:off x="3733920" y="99072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505320" y="7621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3828960" y="806400"/>
              <a:ext cx="228600" cy="152280"/>
              <a:chOff x="3828960" y="806400"/>
              <a:chExt cx="228600" cy="152280"/>
            </a:xfrm>
          </p:grpSpPr>
          <p:sp>
            <p:nvSpPr>
              <p:cNvPr id="491" name=""/>
              <p:cNvSpPr/>
              <p:nvPr/>
            </p:nvSpPr>
            <p:spPr>
              <a:xfrm>
                <a:off x="3860640" y="8064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828960" y="8823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3" name=""/>
          <p:cNvGrpSpPr/>
          <p:nvPr/>
        </p:nvGrpSpPr>
        <p:grpSpPr>
          <a:xfrm>
            <a:off x="5105520" y="762120"/>
            <a:ext cx="533160" cy="457200"/>
            <a:chOff x="5105520" y="762120"/>
            <a:chExt cx="533160" cy="457200"/>
          </a:xfrm>
        </p:grpSpPr>
        <p:sp>
          <p:nvSpPr>
            <p:cNvPr id="494" name=""/>
            <p:cNvSpPr/>
            <p:nvPr/>
          </p:nvSpPr>
          <p:spPr>
            <a:xfrm>
              <a:off x="5257800" y="99072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105520" y="7621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3505320" y="1219320"/>
            <a:ext cx="2209680" cy="457200"/>
            <a:chOff x="3505320" y="1219320"/>
            <a:chExt cx="2209680" cy="457200"/>
          </a:xfrm>
        </p:grpSpPr>
        <p:grpSp>
          <p:nvGrpSpPr>
            <p:cNvPr id="497" name=""/>
            <p:cNvGrpSpPr/>
            <p:nvPr/>
          </p:nvGrpSpPr>
          <p:grpSpPr>
            <a:xfrm>
              <a:off x="3505320" y="1219320"/>
              <a:ext cx="2209680" cy="457200"/>
              <a:chOff x="3505320" y="1219320"/>
              <a:chExt cx="2209680" cy="457200"/>
            </a:xfrm>
          </p:grpSpPr>
          <p:sp>
            <p:nvSpPr>
              <p:cNvPr id="498" name=""/>
              <p:cNvSpPr/>
              <p:nvPr/>
            </p:nvSpPr>
            <p:spPr>
              <a:xfrm flipH="1">
                <a:off x="3505320" y="1219320"/>
                <a:ext cx="3045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50532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505320" y="1676520"/>
                <a:ext cx="22096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571500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 flipH="1">
              <a:off x="5409720" y="1219320"/>
              <a:ext cx="304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3581280" y="1066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105520" y="10666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648320" y="99072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419720" y="9907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343400" y="1066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400800" y="9907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477120" y="609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24280" y="609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724280" y="6094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4495680" y="609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2743200" y="609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2362320" y="6094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3809880" y="1828800"/>
            <a:ext cx="2819520" cy="990720"/>
            <a:chOff x="3809880" y="1828800"/>
            <a:chExt cx="2819520" cy="990720"/>
          </a:xfrm>
        </p:grpSpPr>
        <p:sp>
          <p:nvSpPr>
            <p:cNvPr id="516" name=""/>
            <p:cNvSpPr/>
            <p:nvPr/>
          </p:nvSpPr>
          <p:spPr>
            <a:xfrm>
              <a:off x="5867280" y="24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6095880" y="1981080"/>
              <a:ext cx="533520" cy="457200"/>
              <a:chOff x="6095880" y="1981080"/>
              <a:chExt cx="533520" cy="457200"/>
            </a:xfrm>
          </p:grpSpPr>
          <p:sp>
            <p:nvSpPr>
              <p:cNvPr id="518" name=""/>
              <p:cNvSpPr/>
              <p:nvPr/>
            </p:nvSpPr>
            <p:spPr>
              <a:xfrm>
                <a:off x="6248520" y="2209680"/>
                <a:ext cx="15228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095880" y="1981080"/>
                <a:ext cx="533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>
              <a:off x="6095880" y="22860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09880" y="2438280"/>
              <a:ext cx="1066680" cy="38124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38480" y="220968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95680" y="220968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962160" y="2286000"/>
              <a:ext cx="7621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886200" y="198108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JAI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638680" y="2209680"/>
              <a:ext cx="15228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410080" y="22860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572000" y="1828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15000" y="1828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72000" y="18288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3276720" y="228600"/>
            <a:ext cx="396216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N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33520" y="42670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676520" y="419112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447920" y="3809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Outside J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666880" y="4191120"/>
            <a:ext cx="15264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438280" y="38862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Pa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523880" y="42670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14600" y="42670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19920" y="121932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172200" y="1066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33520" y="5029200"/>
            <a:ext cx="533160" cy="457200"/>
            <a:chOff x="533520" y="5029200"/>
            <a:chExt cx="533160" cy="457200"/>
          </a:xfrm>
        </p:grpSpPr>
        <p:sp>
          <p:nvSpPr>
            <p:cNvPr id="542" name=""/>
            <p:cNvSpPr/>
            <p:nvPr/>
          </p:nvSpPr>
          <p:spPr>
            <a:xfrm>
              <a:off x="685800" y="525780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352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676520" y="5029200"/>
            <a:ext cx="533160" cy="457200"/>
            <a:chOff x="1676520" y="5029200"/>
            <a:chExt cx="533160" cy="457200"/>
          </a:xfrm>
        </p:grpSpPr>
        <p:sp>
          <p:nvSpPr>
            <p:cNvPr id="545" name=""/>
            <p:cNvSpPr/>
            <p:nvPr/>
          </p:nvSpPr>
          <p:spPr>
            <a:xfrm>
              <a:off x="1828800" y="525780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67652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1600200" y="52578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2590920" y="5029200"/>
            <a:ext cx="552240" cy="457200"/>
            <a:chOff x="2590920" y="5029200"/>
            <a:chExt cx="552240" cy="457200"/>
          </a:xfrm>
        </p:grpSpPr>
        <p:sp>
          <p:nvSpPr>
            <p:cNvPr id="549" name=""/>
            <p:cNvSpPr/>
            <p:nvPr/>
          </p:nvSpPr>
          <p:spPr>
            <a:xfrm>
              <a:off x="2819520" y="52578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59092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2914560" y="5073480"/>
              <a:ext cx="228600" cy="152280"/>
              <a:chOff x="2914560" y="5073480"/>
              <a:chExt cx="228600" cy="152280"/>
            </a:xfrm>
          </p:grpSpPr>
          <p:sp>
            <p:nvSpPr>
              <p:cNvPr id="552" name=""/>
              <p:cNvSpPr/>
              <p:nvPr/>
            </p:nvSpPr>
            <p:spPr>
              <a:xfrm>
                <a:off x="2946240" y="50734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914560" y="51494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4" name=""/>
          <p:cNvSpPr/>
          <p:nvPr/>
        </p:nvSpPr>
        <p:spPr>
          <a:xfrm>
            <a:off x="3886200" y="525780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3520" y="5334120"/>
            <a:ext cx="533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523880" y="5334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666880" y="5334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657600" y="5334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625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676520" y="48769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52280" y="3657600"/>
            <a:ext cx="449604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ZON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"/>
          <p:cNvGrpSpPr/>
          <p:nvPr/>
        </p:nvGrpSpPr>
        <p:grpSpPr>
          <a:xfrm>
            <a:off x="228600" y="304920"/>
            <a:ext cx="6781680" cy="4190760"/>
            <a:chOff x="228600" y="304920"/>
            <a:chExt cx="6781680" cy="4190760"/>
          </a:xfrm>
        </p:grpSpPr>
        <p:grpSp>
          <p:nvGrpSpPr>
            <p:cNvPr id="564" name=""/>
            <p:cNvGrpSpPr/>
            <p:nvPr/>
          </p:nvGrpSpPr>
          <p:grpSpPr>
            <a:xfrm>
              <a:off x="380880" y="609120"/>
              <a:ext cx="6476760" cy="3428640"/>
              <a:chOff x="380880" y="609120"/>
              <a:chExt cx="6476760" cy="3428640"/>
            </a:xfrm>
          </p:grpSpPr>
          <p:sp>
            <p:nvSpPr>
              <p:cNvPr id="565" name=""/>
              <p:cNvSpPr/>
              <p:nvPr/>
            </p:nvSpPr>
            <p:spPr>
              <a:xfrm>
                <a:off x="1066680" y="1752120"/>
                <a:ext cx="1295280" cy="45684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676160" y="1752120"/>
                <a:ext cx="441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7" name=""/>
              <p:cNvGrpSpPr/>
              <p:nvPr/>
            </p:nvGrpSpPr>
            <p:grpSpPr>
              <a:xfrm>
                <a:off x="1676160" y="3123720"/>
                <a:ext cx="3657600" cy="761040"/>
                <a:chOff x="1676160" y="3123720"/>
                <a:chExt cx="3657600" cy="76104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1904760" y="3732840"/>
                  <a:ext cx="3048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5812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0" name=""/>
                <p:cNvGrpSpPr/>
                <p:nvPr/>
              </p:nvGrpSpPr>
              <p:grpSpPr>
                <a:xfrm>
                  <a:off x="2438280" y="3275640"/>
                  <a:ext cx="552240" cy="456480"/>
                  <a:chOff x="2438280" y="3275640"/>
                  <a:chExt cx="552240" cy="45648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>
                    <a:off x="2666880" y="3503880"/>
                    <a:ext cx="152280" cy="22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2438280" y="3275640"/>
                    <a:ext cx="53316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73" name=""/>
                  <p:cNvGrpSpPr/>
                  <p:nvPr/>
                </p:nvGrpSpPr>
                <p:grpSpPr>
                  <a:xfrm>
                    <a:off x="2761920" y="3319560"/>
                    <a:ext cx="228600" cy="151920"/>
                    <a:chOff x="2761920" y="3319560"/>
                    <a:chExt cx="228600" cy="151920"/>
                  </a:xfrm>
                </p:grpSpPr>
                <p:sp>
                  <p:nvSpPr>
                    <p:cNvPr id="574" name=""/>
                    <p:cNvSpPr/>
                    <p:nvPr/>
                  </p:nvSpPr>
                  <p:spPr>
                    <a:xfrm>
                      <a:off x="2793600" y="3319560"/>
                      <a:ext cx="152640" cy="151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5" name=""/>
                    <p:cNvSpPr/>
                    <p:nvPr/>
                  </p:nvSpPr>
                  <p:spPr>
                    <a:xfrm>
                      <a:off x="2761920" y="3395160"/>
                      <a:ext cx="2286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76" name=""/>
                <p:cNvSpPr/>
                <p:nvPr/>
              </p:nvSpPr>
              <p:spPr>
                <a:xfrm>
                  <a:off x="2514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16761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42670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403848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3352680" y="3504240"/>
                  <a:ext cx="152280" cy="228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2763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4800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4290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43434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flipH="1">
                  <a:off x="3429000" y="312372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6" name=""/>
              <p:cNvSpPr/>
              <p:nvPr/>
            </p:nvSpPr>
            <p:spPr>
              <a:xfrm>
                <a:off x="5867280" y="1599480"/>
                <a:ext cx="5331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333760" y="1523520"/>
                <a:ext cx="15228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10516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571640" y="1523520"/>
                <a:ext cx="15264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34304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962160" y="1523520"/>
                <a:ext cx="15228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2" name=""/>
              <p:cNvGrpSpPr/>
              <p:nvPr/>
            </p:nvGrpSpPr>
            <p:grpSpPr>
              <a:xfrm>
                <a:off x="3428640" y="1294920"/>
                <a:ext cx="533520" cy="456480"/>
                <a:chOff x="3428640" y="1294920"/>
                <a:chExt cx="533520" cy="45648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3580920" y="1523160"/>
                  <a:ext cx="15264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428640" y="1294920"/>
                  <a:ext cx="53352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8A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5" name=""/>
              <p:cNvSpPr/>
              <p:nvPr/>
            </p:nvSpPr>
            <p:spPr>
              <a:xfrm>
                <a:off x="3581280" y="1599480"/>
                <a:ext cx="5331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047760" y="1523520"/>
                <a:ext cx="15228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81916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285640" y="1523520"/>
                <a:ext cx="15264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371240" y="1523520"/>
                <a:ext cx="15264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599840" y="1523520"/>
                <a:ext cx="15264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657240" y="274248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4100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657240" y="274248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6857640" y="1142280"/>
                <a:ext cx="0" cy="159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5409720" y="11422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0384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1240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124080" y="11422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0384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1240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447560" y="11422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36196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44756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1676160" y="91332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676160" y="9136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590560" y="913680"/>
                <a:ext cx="45720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05704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295280" y="1599480"/>
                <a:ext cx="5331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2361960" y="1980720"/>
                <a:ext cx="0" cy="756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0" name=""/>
              <p:cNvGrpSpPr/>
              <p:nvPr/>
            </p:nvGrpSpPr>
            <p:grpSpPr>
              <a:xfrm>
                <a:off x="1676160" y="3123720"/>
                <a:ext cx="3657600" cy="761040"/>
                <a:chOff x="1676160" y="3123720"/>
                <a:chExt cx="3657600" cy="76104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1904760" y="3732840"/>
                  <a:ext cx="3048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5812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3" name=""/>
                <p:cNvGrpSpPr/>
                <p:nvPr/>
              </p:nvGrpSpPr>
              <p:grpSpPr>
                <a:xfrm>
                  <a:off x="2438280" y="3275640"/>
                  <a:ext cx="552240" cy="456480"/>
                  <a:chOff x="2438280" y="3275640"/>
                  <a:chExt cx="552240" cy="456480"/>
                </a:xfrm>
              </p:grpSpPr>
              <p:sp>
                <p:nvSpPr>
                  <p:cNvPr id="624" name=""/>
                  <p:cNvSpPr/>
                  <p:nvPr/>
                </p:nvSpPr>
                <p:spPr>
                  <a:xfrm>
                    <a:off x="2666880" y="3503880"/>
                    <a:ext cx="152280" cy="22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2438280" y="3275640"/>
                    <a:ext cx="53316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6" name=""/>
                  <p:cNvGrpSpPr/>
                  <p:nvPr/>
                </p:nvGrpSpPr>
                <p:grpSpPr>
                  <a:xfrm>
                    <a:off x="2761920" y="3319560"/>
                    <a:ext cx="228600" cy="151920"/>
                    <a:chOff x="2761920" y="3319560"/>
                    <a:chExt cx="228600" cy="151920"/>
                  </a:xfrm>
                </p:grpSpPr>
                <p:sp>
                  <p:nvSpPr>
                    <p:cNvPr id="627" name=""/>
                    <p:cNvSpPr/>
                    <p:nvPr/>
                  </p:nvSpPr>
                  <p:spPr>
                    <a:xfrm>
                      <a:off x="2793600" y="3319560"/>
                      <a:ext cx="152640" cy="151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>
                      <a:off x="2761920" y="3395160"/>
                      <a:ext cx="2286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629" name=""/>
                <p:cNvSpPr/>
                <p:nvPr/>
              </p:nvSpPr>
              <p:spPr>
                <a:xfrm>
                  <a:off x="2514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6761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42670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03848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3352680" y="3504240"/>
                  <a:ext cx="152280" cy="228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32763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4800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34290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43434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flipH="1">
                  <a:off x="3429000" y="312372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9" name=""/>
              <p:cNvSpPr/>
              <p:nvPr/>
            </p:nvSpPr>
            <p:spPr>
              <a:xfrm flipV="1">
                <a:off x="4647960" y="609120"/>
                <a:ext cx="0" cy="9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837720" y="609480"/>
                <a:ext cx="380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838080" y="609480"/>
                <a:ext cx="0" cy="281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61760" y="3504600"/>
                <a:ext cx="15228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80880" y="3733200"/>
                <a:ext cx="838080" cy="30456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33160" y="3580920"/>
                <a:ext cx="533520" cy="30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914040" y="2513520"/>
                <a:ext cx="2514600" cy="9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428640" y="2513880"/>
                <a:ext cx="152640" cy="9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7" name=""/>
            <p:cNvSpPr/>
            <p:nvPr/>
          </p:nvSpPr>
          <p:spPr>
            <a:xfrm>
              <a:off x="228600" y="304920"/>
              <a:ext cx="6781680" cy="4190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ONE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6324480" y="5105520"/>
            <a:ext cx="2362320" cy="761760"/>
            <a:chOff x="6324480" y="5105520"/>
            <a:chExt cx="2362320" cy="761760"/>
          </a:xfrm>
        </p:grpSpPr>
        <p:sp>
          <p:nvSpPr>
            <p:cNvPr id="649" name=""/>
            <p:cNvSpPr/>
            <p:nvPr/>
          </p:nvSpPr>
          <p:spPr>
            <a:xfrm>
              <a:off x="6629400" y="57150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324480" y="55627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153280" y="55627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010280" y="54864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543800" y="5486400"/>
              <a:ext cx="15228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924680" y="54864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543800" y="55627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934320" y="556272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772400" y="52578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8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2012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08660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086600" y="5105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304920" y="4648320"/>
            <a:ext cx="3352320" cy="1828800"/>
            <a:chOff x="304920" y="4648320"/>
            <a:chExt cx="3352320" cy="1828800"/>
          </a:xfrm>
        </p:grpSpPr>
        <p:sp>
          <p:nvSpPr>
            <p:cNvPr id="662" name=""/>
            <p:cNvSpPr/>
            <p:nvPr/>
          </p:nvSpPr>
          <p:spPr>
            <a:xfrm>
              <a:off x="304920" y="6172200"/>
              <a:ext cx="1523880" cy="3049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38080" y="6172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057400" y="6172200"/>
              <a:ext cx="1523880" cy="3049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09480" y="59436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371600" y="59436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438280" y="59436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209680" y="57150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7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124080" y="5943600"/>
              <a:ext cx="152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5720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4300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200400" y="5562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447920" y="5562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85800" y="46483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447920" y="55627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6" name=""/>
            <p:cNvGrpSpPr/>
            <p:nvPr/>
          </p:nvGrpSpPr>
          <p:grpSpPr>
            <a:xfrm>
              <a:off x="1066680" y="4800600"/>
              <a:ext cx="2590560" cy="609480"/>
              <a:chOff x="1066680" y="4800600"/>
              <a:chExt cx="2590560" cy="609480"/>
            </a:xfrm>
          </p:grpSpPr>
          <p:sp>
            <p:nvSpPr>
              <p:cNvPr id="677" name=""/>
              <p:cNvSpPr/>
              <p:nvPr/>
            </p:nvSpPr>
            <p:spPr>
              <a:xfrm>
                <a:off x="1447560" y="5257800"/>
                <a:ext cx="205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0666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1240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819160" y="5029200"/>
                <a:ext cx="15228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590560" y="4800600"/>
                <a:ext cx="533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7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981080" y="5029200"/>
                <a:ext cx="15228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752480" y="4800600"/>
                <a:ext cx="533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7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7524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438280" y="5029200"/>
                <a:ext cx="15228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4382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7" name=""/>
            <p:cNvSpPr/>
            <p:nvPr/>
          </p:nvSpPr>
          <p:spPr>
            <a:xfrm>
              <a:off x="2514600" y="4648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685800" y="46483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438280" y="6172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0968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89548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962520" y="5105520"/>
            <a:ext cx="19810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is ZON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is ZON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15:53:16Z</dcterms:created>
  <dc:creator>Wai K Lim</dc:creator>
  <dc:description/>
  <dc:language>en-US</dc:language>
  <cp:lastModifiedBy>Wai K Lim</cp:lastModifiedBy>
  <dcterms:modified xsi:type="dcterms:W3CDTF">2003-03-11T03:57:36Z</dcterms:modified>
  <cp:revision>180</cp:revision>
  <dc:subject/>
  <dc:title>No Slide Title</dc:title>
</cp:coreProperties>
</file>