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6786-D61B-4B31-A843-0CB557CE13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F4CB-B465-4BEC-8D4F-96A8ECAF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4AAA-ADA9-437F-88E5-46C991A8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F84B-5ED8-49D0-9F9D-7CFBABCB56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9E1DB-041B-423D-AC01-D2AB953A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7856F-481B-4298-AFF7-0CF689EC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663C8-AE5B-4C4A-8F4A-F34CCC46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AD002-DDB1-4682-AA66-7ABFD808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048E8-570A-45EF-80EA-068D2DC9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DCB8B-83F9-4571-821B-74DC9E94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2C5AF-EB5E-4B23-99C6-998F3D6F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7037-0882-47AA-9690-8E518430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E8CAC-6FE7-4896-9020-63C9F9A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535E7-86F2-42DD-B6D8-CA969FBF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CD696-8590-4BE8-932A-14527908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64BA7-22B2-41F1-BF1E-87A8A41F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97EE9-1913-4282-8706-DD3FD90B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D480-DF2F-4578-9F02-E7AFCD15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F24F-F741-4A3E-B5DC-8AD43B0C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047A-9F3C-4A88-A7C2-CD113070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2920-EB6C-477B-B7D2-844CDC1B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DE53-63D1-453F-965E-1546D6F0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0BAB-BABA-419D-B801-B6B1C659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3F7C-FC58-45B7-ADD1-5519AB5F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12B7-4813-4081-9CE5-33BAC07A7E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74D8-2CF0-42DE-9E22-EC794C9CC4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89" name=""/>
            <p:cNvSpPr/>
            <p:nvPr/>
          </p:nvSpPr>
          <p:spPr>
            <a:xfrm>
              <a:off x="7848720" y="2863800"/>
              <a:ext cx="137160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98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102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066680"/>
            <a:ext cx="8229240" cy="1022400"/>
            <a:chOff x="0" y="1066680"/>
            <a:chExt cx="8229240" cy="1022400"/>
          </a:xfrm>
        </p:grpSpPr>
        <p:grpSp>
          <p:nvGrpSpPr>
            <p:cNvPr id="108" name=""/>
            <p:cNvGrpSpPr/>
            <p:nvPr/>
          </p:nvGrpSpPr>
          <p:grpSpPr>
            <a:xfrm>
              <a:off x="47520" y="1066680"/>
              <a:ext cx="1811880" cy="991800"/>
              <a:chOff x="47520" y="1066680"/>
              <a:chExt cx="1811880" cy="991800"/>
            </a:xfrm>
          </p:grpSpPr>
          <p:sp>
            <p:nvSpPr>
              <p:cNvPr id="109" name=""/>
              <p:cNvSpPr/>
              <p:nvPr/>
            </p:nvSpPr>
            <p:spPr>
              <a:xfrm>
                <a:off x="47520" y="113976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0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7400" y="116892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7400" y="111060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7400" y="106668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504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000" y="116892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1000" y="111060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1000" y="106668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99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7496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7496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74960" y="106668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6296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892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92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38920" y="106668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83280" y="114336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520" y="149256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1400" y="138168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7360" y="135468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7360" y="129636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7360" y="125208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36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3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13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1320" y="125208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593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349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349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34920" y="125208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229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00320" y="135468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00320" y="129636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00320" y="125208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549440" y="1076040"/>
              <a:ext cx="1919160" cy="981000"/>
              <a:chOff x="1549440" y="1076040"/>
              <a:chExt cx="1919160" cy="981000"/>
            </a:xfrm>
          </p:grpSpPr>
          <p:sp>
            <p:nvSpPr>
              <p:cNvPr id="145" name=""/>
              <p:cNvSpPr/>
              <p:nvPr/>
            </p:nvSpPr>
            <p:spPr>
              <a:xfrm>
                <a:off x="1549440" y="114840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852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6696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6696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107604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188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5252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5252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52520" y="107604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574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3772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772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37720" y="107604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426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2328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2328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23280" y="107604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72320" y="115344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49440" y="149652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38720" y="138636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19000" y="136008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19000" y="130248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19000" y="125892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239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045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045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04560" y="125892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091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897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97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89760" y="125892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9468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6040" y="136008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76040" y="130248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76040" y="125892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75920" y="1066680"/>
              <a:ext cx="2005200" cy="988920"/>
              <a:chOff x="3175920" y="1066680"/>
              <a:chExt cx="2005200" cy="9889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75920" y="113940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3423240" y="1066680"/>
                <a:ext cx="353880" cy="212760"/>
                <a:chOff x="3423240" y="1066680"/>
                <a:chExt cx="353880" cy="212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423240" y="119556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507480" y="1066680"/>
                  <a:ext cx="265680" cy="196200"/>
                  <a:chOff x="3507480" y="1066680"/>
                  <a:chExt cx="265680" cy="196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07480" y="116820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07480" y="111024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507480" y="106668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826080" y="1066680"/>
                <a:ext cx="354240" cy="212760"/>
                <a:chOff x="3826080" y="1066680"/>
                <a:chExt cx="354240" cy="2127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82608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910680" y="1066680"/>
                  <a:ext cx="266040" cy="196200"/>
                  <a:chOff x="3910680" y="1066680"/>
                  <a:chExt cx="266040" cy="196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91068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91068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91068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4228920" y="1066680"/>
                <a:ext cx="354240" cy="212760"/>
                <a:chOff x="4228920" y="1066680"/>
                <a:chExt cx="354240" cy="212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22892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313520" y="1066680"/>
                  <a:ext cx="266040" cy="196200"/>
                  <a:chOff x="4313520" y="1066680"/>
                  <a:chExt cx="266040" cy="196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31352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1352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31352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4631760" y="1066680"/>
                <a:ext cx="354240" cy="212760"/>
                <a:chOff x="4631760" y="1066680"/>
                <a:chExt cx="354240" cy="212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3176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4716360" y="1066680"/>
                  <a:ext cx="266040" cy="196200"/>
                  <a:chOff x="4716360" y="1066680"/>
                  <a:chExt cx="266040" cy="196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71636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71636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71636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4871880" y="114444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75920" y="149004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3268440" y="1251360"/>
                <a:ext cx="354240" cy="212760"/>
                <a:chOff x="3268440" y="1251360"/>
                <a:chExt cx="354240" cy="212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26844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3353040" y="1251360"/>
                  <a:ext cx="266040" cy="196200"/>
                  <a:chOff x="3353040" y="1251360"/>
                  <a:chExt cx="266040" cy="1962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35304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35304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5304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3671280" y="1251360"/>
                <a:ext cx="354240" cy="212760"/>
                <a:chOff x="3671280" y="1251360"/>
                <a:chExt cx="354240" cy="212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7128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3755880" y="1251360"/>
                  <a:ext cx="266040" cy="196200"/>
                  <a:chOff x="3755880" y="1251360"/>
                  <a:chExt cx="266040" cy="1962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75588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5588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5588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4074120" y="1251360"/>
                <a:ext cx="354240" cy="212760"/>
                <a:chOff x="4074120" y="1251360"/>
                <a:chExt cx="354240" cy="2127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0741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4158720" y="1251360"/>
                  <a:ext cx="266040" cy="196200"/>
                  <a:chOff x="4158720" y="1251360"/>
                  <a:chExt cx="266040" cy="1962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1587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1587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1587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4477320" y="1251360"/>
                <a:ext cx="354240" cy="212760"/>
                <a:chOff x="4477320" y="1251360"/>
                <a:chExt cx="354240" cy="212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4773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4561920" y="1251360"/>
                  <a:ext cx="266040" cy="196200"/>
                  <a:chOff x="4561920" y="1251360"/>
                  <a:chExt cx="266040" cy="196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45619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5619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5619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"/>
            <p:cNvGrpSpPr/>
            <p:nvPr/>
          </p:nvGrpSpPr>
          <p:grpSpPr>
            <a:xfrm>
              <a:off x="4835880" y="1077840"/>
              <a:ext cx="1928520" cy="981000"/>
              <a:chOff x="4835880" y="1077840"/>
              <a:chExt cx="1928520" cy="981000"/>
            </a:xfrm>
          </p:grpSpPr>
          <p:sp>
            <p:nvSpPr>
              <p:cNvPr id="233" name=""/>
              <p:cNvSpPr/>
              <p:nvPr/>
            </p:nvSpPr>
            <p:spPr>
              <a:xfrm>
                <a:off x="4835880" y="114984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31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5484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5484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54840" y="107784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61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4220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4220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2200" y="107784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8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2956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2956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29560" y="107784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359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1692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692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16920" y="107784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66680" y="115524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35880" y="149796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25520" y="138816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06520" y="136188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06520" y="13042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06520" y="126072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12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93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93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93520" y="126072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99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0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80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80520" y="126072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724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68960" y="136188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68960" y="130428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68960" y="126072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559880" y="15764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8000" y="15764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9000" y="15764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53648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447960" y="1077840"/>
              <a:ext cx="1781280" cy="981000"/>
              <a:chOff x="6447960" y="1077840"/>
              <a:chExt cx="1781280" cy="981000"/>
            </a:xfrm>
          </p:grpSpPr>
          <p:sp>
            <p:nvSpPr>
              <p:cNvPr id="273" name=""/>
              <p:cNvSpPr/>
              <p:nvPr/>
            </p:nvSpPr>
            <p:spPr>
              <a:xfrm>
                <a:off x="6447960" y="115020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6684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280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4280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42800" y="107784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2576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0064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0064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00640" y="107784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8360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5812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07784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4108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1560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1560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15600" y="107784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57800" y="115344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47960" y="149904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30760" y="138924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05280" y="136260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05280" y="130500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5280" y="126108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8824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6312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6312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63120" y="126108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4608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2060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2060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20600" y="126108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0392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79520" y="136260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79520" y="130500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79520" y="126108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585480" y="155232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7924680" y="22096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2057400"/>
            <a:ext cx="3886200" cy="40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Sin requisitos de entrena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5880" y="2133720"/>
            <a:ext cx="1752840" cy="4647960"/>
            <a:chOff x="6095880" y="2133720"/>
            <a:chExt cx="1752840" cy="4647960"/>
          </a:xfrm>
        </p:grpSpPr>
        <p:sp>
          <p:nvSpPr>
            <p:cNvPr id="312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2133720"/>
              <a:ext cx="1752840" cy="304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33cc33"/>
                  </a:solidFill>
                  <a:latin typeface="Arial"/>
                </a:rPr>
                <a:t>Sales  Ski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7924680" y="2529000"/>
            <a:ext cx="1371600" cy="3528000"/>
            <a:chOff x="7924680" y="2529000"/>
            <a:chExt cx="1371600" cy="3528000"/>
          </a:xfrm>
        </p:grpSpPr>
        <p:sp>
          <p:nvSpPr>
            <p:cNvPr id="319" name=""/>
            <p:cNvSpPr/>
            <p:nvPr/>
          </p:nvSpPr>
          <p:spPr>
            <a:xfrm>
              <a:off x="7924680" y="25290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24680" y="39006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4680" y="541008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24680" y="5029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4680" y="36576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59092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705720" y="3886200"/>
            <a:ext cx="990360" cy="990720"/>
            <a:chOff x="6705720" y="3886200"/>
            <a:chExt cx="990360" cy="990720"/>
          </a:xfrm>
        </p:grpSpPr>
        <p:sp>
          <p:nvSpPr>
            <p:cNvPr id="326" name=""/>
            <p:cNvSpPr/>
            <p:nvPr/>
          </p:nvSpPr>
          <p:spPr>
            <a:xfrm>
              <a:off x="6857640" y="388620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05720" y="4267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4648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330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705720" y="5410080"/>
            <a:ext cx="990360" cy="1295640"/>
            <a:chOff x="6705720" y="5410080"/>
            <a:chExt cx="990360" cy="1295640"/>
          </a:xfrm>
        </p:grpSpPr>
        <p:sp>
          <p:nvSpPr>
            <p:cNvPr id="333" name=""/>
            <p:cNvSpPr/>
            <p:nvPr/>
          </p:nvSpPr>
          <p:spPr>
            <a:xfrm>
              <a:off x="6857640" y="541008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3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791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05720" y="6172200"/>
              <a:ext cx="9903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Master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14400" y="541008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6320" y="1447920"/>
            <a:ext cx="8153280" cy="982080"/>
            <a:chOff x="76320" y="1447920"/>
            <a:chExt cx="8153280" cy="982080"/>
          </a:xfrm>
        </p:grpSpPr>
        <p:grpSp>
          <p:nvGrpSpPr>
            <p:cNvPr id="339" name=""/>
            <p:cNvGrpSpPr/>
            <p:nvPr/>
          </p:nvGrpSpPr>
          <p:grpSpPr>
            <a:xfrm>
              <a:off x="123840" y="1447920"/>
              <a:ext cx="1781280" cy="914760"/>
              <a:chOff x="123840" y="1447920"/>
              <a:chExt cx="1781280" cy="914760"/>
            </a:xfrm>
          </p:grpSpPr>
          <p:sp>
            <p:nvSpPr>
              <p:cNvPr id="340" name=""/>
              <p:cNvSpPr/>
              <p:nvPr/>
            </p:nvSpPr>
            <p:spPr>
              <a:xfrm>
                <a:off x="123840" y="151524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27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8680" y="154224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8680" y="148860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8680" y="144792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128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6160" y="154224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6160" y="148860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6160" y="144792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591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3400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13400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34000" y="144792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1696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9148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9148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91480" y="144792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33680" y="151848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3840" y="184068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280" y="173808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1160" y="171324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1160" y="165960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1160" y="161892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412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900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900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000" y="161892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2196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9648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9648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96480" y="161892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7944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5400" y="171324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55400" y="165960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55400" y="161892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600200" y="1449000"/>
              <a:ext cx="1887480" cy="903960"/>
              <a:chOff x="1600200" y="1449000"/>
              <a:chExt cx="1887480" cy="903960"/>
            </a:xfrm>
          </p:grpSpPr>
          <p:sp>
            <p:nvSpPr>
              <p:cNvPr id="376" name=""/>
              <p:cNvSpPr/>
              <p:nvPr/>
            </p:nvSpPr>
            <p:spPr>
              <a:xfrm>
                <a:off x="1600200" y="151560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240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1232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1232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12320" y="144900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125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9140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9140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91400" y="144900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9164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70480" y="154188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70480" y="148896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670480" y="144900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703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9560" y="154188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560" y="148896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560" y="144900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96080" y="152028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00200" y="183636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88040" y="173520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67240" y="171072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67240" y="165780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67240" y="161748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671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45960" y="1710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45960" y="1657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45960" y="161748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4584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25040" y="1710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25040" y="1657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25040" y="161748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249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5200" y="171072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05200" y="165780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05200" y="161748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3200400" y="1449000"/>
              <a:ext cx="1971720" cy="911880"/>
              <a:chOff x="3200400" y="1449000"/>
              <a:chExt cx="1971720" cy="911880"/>
            </a:xfrm>
          </p:grpSpPr>
          <p:sp>
            <p:nvSpPr>
              <p:cNvPr id="412" name=""/>
              <p:cNvSpPr/>
              <p:nvPr/>
            </p:nvSpPr>
            <p:spPr>
              <a:xfrm>
                <a:off x="3200400" y="151596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3443400" y="1449000"/>
                <a:ext cx="348120" cy="196200"/>
                <a:chOff x="3443400" y="1449000"/>
                <a:chExt cx="348120" cy="1962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443400" y="156780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3526560" y="1449000"/>
                  <a:ext cx="261360" cy="181080"/>
                  <a:chOff x="3526560" y="1449000"/>
                  <a:chExt cx="261360" cy="1810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526560" y="154260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526560" y="148932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26560" y="144900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" name=""/>
              <p:cNvGrpSpPr/>
              <p:nvPr/>
            </p:nvGrpSpPr>
            <p:grpSpPr>
              <a:xfrm>
                <a:off x="3839760" y="1449000"/>
                <a:ext cx="348480" cy="196200"/>
                <a:chOff x="3839760" y="1449000"/>
                <a:chExt cx="348480" cy="196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839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3922920" y="1449000"/>
                  <a:ext cx="261720" cy="181080"/>
                  <a:chOff x="3922920" y="1449000"/>
                  <a:chExt cx="261720" cy="1810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922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22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922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4235760" y="1449000"/>
                <a:ext cx="348480" cy="196200"/>
                <a:chOff x="4235760" y="1449000"/>
                <a:chExt cx="348480" cy="196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235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4318920" y="1449000"/>
                  <a:ext cx="261720" cy="181080"/>
                  <a:chOff x="4318920" y="1449000"/>
                  <a:chExt cx="261720" cy="1810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4318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318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318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4631760" y="1449000"/>
                <a:ext cx="348480" cy="196200"/>
                <a:chOff x="4631760" y="1449000"/>
                <a:chExt cx="348480" cy="196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631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4714920" y="1449000"/>
                  <a:ext cx="261720" cy="181080"/>
                  <a:chOff x="4714920" y="1449000"/>
                  <a:chExt cx="261720" cy="1810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4714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714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714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4867920" y="152064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200400" y="183960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3291480" y="1619280"/>
                <a:ext cx="348480" cy="196200"/>
                <a:chOff x="3291480" y="1619280"/>
                <a:chExt cx="348480" cy="1962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291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3374640" y="1619280"/>
                  <a:ext cx="261720" cy="181080"/>
                  <a:chOff x="3374640" y="1619280"/>
                  <a:chExt cx="261720" cy="1810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374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374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374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687480" y="1619280"/>
                <a:ext cx="348480" cy="196200"/>
                <a:chOff x="3687480" y="1619280"/>
                <a:chExt cx="348480" cy="1962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87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770640" y="1619280"/>
                  <a:ext cx="261720" cy="181080"/>
                  <a:chOff x="3770640" y="1619280"/>
                  <a:chExt cx="261720" cy="1810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3770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3770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770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4083840" y="1619280"/>
                <a:ext cx="348480" cy="196200"/>
                <a:chOff x="4083840" y="1619280"/>
                <a:chExt cx="348480" cy="1962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083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167000" y="1619280"/>
                  <a:ext cx="261720" cy="181080"/>
                  <a:chOff x="4167000" y="1619280"/>
                  <a:chExt cx="261720" cy="1810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167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167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167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4479840" y="1619280"/>
                <a:ext cx="348480" cy="196200"/>
                <a:chOff x="4479840" y="1619280"/>
                <a:chExt cx="348480" cy="196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479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4563000" y="1619280"/>
                  <a:ext cx="261720" cy="181080"/>
                  <a:chOff x="4563000" y="1619280"/>
                  <a:chExt cx="261720" cy="1810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563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563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63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3" name=""/>
            <p:cNvGrpSpPr/>
            <p:nvPr/>
          </p:nvGrpSpPr>
          <p:grpSpPr>
            <a:xfrm>
              <a:off x="4876920" y="1457640"/>
              <a:ext cx="1897200" cy="904320"/>
              <a:chOff x="4876920" y="1457640"/>
              <a:chExt cx="1897200" cy="904320"/>
            </a:xfrm>
          </p:grpSpPr>
          <p:sp>
            <p:nvSpPr>
              <p:cNvPr id="464" name=""/>
              <p:cNvSpPr/>
              <p:nvPr/>
            </p:nvSpPr>
            <p:spPr>
              <a:xfrm>
                <a:off x="4876920" y="152388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102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9084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9084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0840" y="145764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9216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7172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7172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71720" y="145764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734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5296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5296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52960" y="145764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428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3384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3384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33840" y="145764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81440" y="152892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76920" y="184500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65120" y="174384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4680" y="171936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44680" y="166644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44680" y="162612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4600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556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2556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25560" y="162612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2688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0644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0644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06440" y="162612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0776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88400" y="171936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88400" y="166644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88400" y="162612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601280" y="1917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49520" y="1917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31360" y="1917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320" y="188100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477120" y="1457640"/>
              <a:ext cx="1752480" cy="904680"/>
              <a:chOff x="6477120" y="1457640"/>
              <a:chExt cx="1752480" cy="904680"/>
            </a:xfrm>
          </p:grpSpPr>
          <p:sp>
            <p:nvSpPr>
              <p:cNvPr id="504" name=""/>
              <p:cNvSpPr/>
              <p:nvPr/>
            </p:nvSpPr>
            <p:spPr>
              <a:xfrm>
                <a:off x="6477120" y="152424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9240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6692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76692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6920" y="145764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455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1900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1900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19000" y="145764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9764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7072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7072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70720" y="145764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493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82280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82280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22800" y="145764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62480" y="152712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77120" y="184608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8480" y="174456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31920" y="172008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31920" y="166716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31920" y="162684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1020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8364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8364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83640" y="162684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6228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3572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3572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35720" y="162684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1436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88880" y="172008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88880" y="166716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88880" y="162684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553440" y="189540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5410080"/>
            <a:ext cx="22100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807732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77320" y="38862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77320" y="55627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54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55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58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62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67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71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6400800" y="4114800"/>
            <a:ext cx="16765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75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57913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0880" y="6248520"/>
            <a:ext cx="129564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6477120"/>
            <a:ext cx="13716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4419720"/>
            <a:ext cx="12956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38280" y="297180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396252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594360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4419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91120" y="6324480"/>
            <a:ext cx="16761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2280" y="510552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6095880"/>
            <a:ext cx="198108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559-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00800" y="548640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14600" y="541008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76320" y="2098800"/>
          <a:ext cx="7848360" cy="45306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9680" y="4343400"/>
            <a:ext cx="3810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676520" y="3809880"/>
            <a:ext cx="48765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52480" y="29718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924680" y="2362320"/>
            <a:ext cx="1371600" cy="3528000"/>
            <a:chOff x="7924680" y="2362320"/>
            <a:chExt cx="1371600" cy="3528000"/>
          </a:xfrm>
        </p:grpSpPr>
        <p:sp>
          <p:nvSpPr>
            <p:cNvPr id="789" name=""/>
            <p:cNvSpPr/>
            <p:nvPr/>
          </p:nvSpPr>
          <p:spPr>
            <a:xfrm>
              <a:off x="7924680" y="2362320"/>
              <a:ext cx="1371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24680" y="37339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924680" y="52434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24680" y="48625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4680" y="3490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0" y="1117440"/>
            <a:ext cx="8153280" cy="1022040"/>
            <a:chOff x="0" y="1117440"/>
            <a:chExt cx="8153280" cy="1022040"/>
          </a:xfrm>
        </p:grpSpPr>
        <p:grpSp>
          <p:nvGrpSpPr>
            <p:cNvPr id="796" name=""/>
            <p:cNvGrpSpPr/>
            <p:nvPr/>
          </p:nvGrpSpPr>
          <p:grpSpPr>
            <a:xfrm>
              <a:off x="47520" y="1117440"/>
              <a:ext cx="1781280" cy="991800"/>
              <a:chOff x="47520" y="1117440"/>
              <a:chExt cx="1781280" cy="991800"/>
            </a:xfrm>
          </p:grpSpPr>
          <p:sp>
            <p:nvSpPr>
              <p:cNvPr id="797" name=""/>
              <p:cNvSpPr/>
              <p:nvPr/>
            </p:nvSpPr>
            <p:spPr>
              <a:xfrm>
                <a:off x="47520" y="119052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64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2360" y="121968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42360" y="116136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2360" y="111744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496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9840" y="121968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9840" y="116136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9840" y="111744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28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5768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5768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57680" y="111744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4064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1516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1516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15160" y="111744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57360" y="119412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520" y="154332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9960" y="143244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04840" y="140544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4840" y="134712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4840" y="130284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8780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268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268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2680" y="130284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4564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92016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92016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920160" y="130284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0312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79080" y="140544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79080" y="134712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279080" y="130284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1523880" y="1118880"/>
              <a:ext cx="1887480" cy="980640"/>
              <a:chOff x="1523880" y="1118880"/>
              <a:chExt cx="1887480" cy="980640"/>
            </a:xfrm>
          </p:grpSpPr>
          <p:sp>
            <p:nvSpPr>
              <p:cNvPr id="833" name=""/>
              <p:cNvSpPr/>
              <p:nvPr/>
            </p:nvSpPr>
            <p:spPr>
              <a:xfrm>
                <a:off x="1523880" y="119124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5608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83600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83600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836000" y="111888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1362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1508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1508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215080" y="111888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1532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94160" y="121968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594160" y="116244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594160" y="111888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8940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73240" y="121968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73240" y="116244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73240" y="111888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19760" y="119628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23880" y="153900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11720" y="142920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90920" y="140256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90920" y="134532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90920" y="130176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908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69640" y="140256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69640" y="134532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069640" y="130176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36952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48720" y="140256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448720" y="134532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448720" y="130176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486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28880" y="140256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828880" y="134532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28880" y="130176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124080" y="1118880"/>
              <a:ext cx="1971720" cy="988920"/>
              <a:chOff x="3124080" y="1118880"/>
              <a:chExt cx="1971720" cy="988920"/>
            </a:xfrm>
          </p:grpSpPr>
          <p:sp>
            <p:nvSpPr>
              <p:cNvPr id="869" name=""/>
              <p:cNvSpPr/>
              <p:nvPr/>
            </p:nvSpPr>
            <p:spPr>
              <a:xfrm>
                <a:off x="3124080" y="119160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3367080" y="1118880"/>
                <a:ext cx="348120" cy="212760"/>
                <a:chOff x="3367080" y="1118880"/>
                <a:chExt cx="348120" cy="2127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3367080" y="124776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3450240" y="1118880"/>
                  <a:ext cx="261360" cy="196200"/>
                  <a:chOff x="3450240" y="1118880"/>
                  <a:chExt cx="261360" cy="1962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3450240" y="122040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450240" y="116244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450240" y="111888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3763440" y="1118880"/>
                <a:ext cx="348480" cy="212760"/>
                <a:chOff x="3763440" y="1118880"/>
                <a:chExt cx="348480" cy="2127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3763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3846600" y="1118880"/>
                  <a:ext cx="261720" cy="196200"/>
                  <a:chOff x="3846600" y="1118880"/>
                  <a:chExt cx="261720" cy="19620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3846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846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846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2" name=""/>
              <p:cNvGrpSpPr/>
              <p:nvPr/>
            </p:nvGrpSpPr>
            <p:grpSpPr>
              <a:xfrm>
                <a:off x="4159440" y="1118880"/>
                <a:ext cx="348480" cy="212760"/>
                <a:chOff x="4159440" y="1118880"/>
                <a:chExt cx="348480" cy="21276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4159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4242600" y="1118880"/>
                  <a:ext cx="261720" cy="196200"/>
                  <a:chOff x="4242600" y="1118880"/>
                  <a:chExt cx="261720" cy="1962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4242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242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242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"/>
              <p:cNvGrpSpPr/>
              <p:nvPr/>
            </p:nvGrpSpPr>
            <p:grpSpPr>
              <a:xfrm>
                <a:off x="4555440" y="1118880"/>
                <a:ext cx="348480" cy="212760"/>
                <a:chOff x="4555440" y="1118880"/>
                <a:chExt cx="348480" cy="21276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4555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0" name=""/>
                <p:cNvGrpSpPr/>
                <p:nvPr/>
              </p:nvGrpSpPr>
              <p:grpSpPr>
                <a:xfrm>
                  <a:off x="4638600" y="1118880"/>
                  <a:ext cx="261720" cy="196200"/>
                  <a:chOff x="4638600" y="1118880"/>
                  <a:chExt cx="261720" cy="19620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4638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4638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4638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4" name=""/>
              <p:cNvSpPr/>
              <p:nvPr/>
            </p:nvSpPr>
            <p:spPr>
              <a:xfrm>
                <a:off x="4791600" y="119664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124080" y="154224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3215160" y="1303560"/>
                <a:ext cx="348480" cy="212760"/>
                <a:chOff x="3215160" y="1303560"/>
                <a:chExt cx="348480" cy="2127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215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3298320" y="1303560"/>
                  <a:ext cx="261720" cy="196200"/>
                  <a:chOff x="3298320" y="1303560"/>
                  <a:chExt cx="26172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3298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298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298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2" name=""/>
              <p:cNvGrpSpPr/>
              <p:nvPr/>
            </p:nvGrpSpPr>
            <p:grpSpPr>
              <a:xfrm>
                <a:off x="3611160" y="1303560"/>
                <a:ext cx="348480" cy="212760"/>
                <a:chOff x="3611160" y="1303560"/>
                <a:chExt cx="348480" cy="2127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611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3694320" y="1303560"/>
                  <a:ext cx="261720" cy="196200"/>
                  <a:chOff x="3694320" y="1303560"/>
                  <a:chExt cx="261720" cy="19620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3694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694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694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8" name=""/>
              <p:cNvGrpSpPr/>
              <p:nvPr/>
            </p:nvGrpSpPr>
            <p:grpSpPr>
              <a:xfrm>
                <a:off x="4007520" y="1303560"/>
                <a:ext cx="348480" cy="212760"/>
                <a:chOff x="4007520" y="1303560"/>
                <a:chExt cx="348480" cy="2127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4007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0" name=""/>
                <p:cNvGrpSpPr/>
                <p:nvPr/>
              </p:nvGrpSpPr>
              <p:grpSpPr>
                <a:xfrm>
                  <a:off x="4090680" y="1303560"/>
                  <a:ext cx="261720" cy="196200"/>
                  <a:chOff x="4090680" y="1303560"/>
                  <a:chExt cx="261720" cy="19620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4090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090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090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4" name=""/>
              <p:cNvGrpSpPr/>
              <p:nvPr/>
            </p:nvGrpSpPr>
            <p:grpSpPr>
              <a:xfrm>
                <a:off x="4403520" y="1303560"/>
                <a:ext cx="348480" cy="212760"/>
                <a:chOff x="4403520" y="1303560"/>
                <a:chExt cx="348480" cy="2127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4403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"/>
                <p:cNvGrpSpPr/>
                <p:nvPr/>
              </p:nvGrpSpPr>
              <p:grpSpPr>
                <a:xfrm>
                  <a:off x="4486680" y="1303560"/>
                  <a:ext cx="261720" cy="196200"/>
                  <a:chOff x="4486680" y="1303560"/>
                  <a:chExt cx="261720" cy="19620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4486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486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86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0" name=""/>
            <p:cNvGrpSpPr/>
            <p:nvPr/>
          </p:nvGrpSpPr>
          <p:grpSpPr>
            <a:xfrm>
              <a:off x="4800600" y="1128240"/>
              <a:ext cx="1897200" cy="981360"/>
              <a:chOff x="4800600" y="1128240"/>
              <a:chExt cx="1897200" cy="981360"/>
            </a:xfrm>
          </p:grpSpPr>
          <p:sp>
            <p:nvSpPr>
              <p:cNvPr id="921" name=""/>
              <p:cNvSpPr/>
              <p:nvPr/>
            </p:nvSpPr>
            <p:spPr>
              <a:xfrm>
                <a:off x="4800600" y="120024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338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11452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1452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14520" y="112824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41584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49540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9540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95400" y="112824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970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7664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664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76640" y="112824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17796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752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752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57520" y="112824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05120" y="120564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800600" y="154836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88800" y="143892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68360" y="141228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968360" y="135468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68360" y="131112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6968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34924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4924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49240" y="131112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056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3012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73012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730120" y="131112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03144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112080" y="141228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12080" y="135468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112080" y="131112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1523160" y="16268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73200" y="16268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55040" y="16268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158724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6400800" y="1128240"/>
              <a:ext cx="1752480" cy="981000"/>
              <a:chOff x="6400800" y="1128240"/>
              <a:chExt cx="1752480" cy="981000"/>
            </a:xfrm>
          </p:grpSpPr>
          <p:sp>
            <p:nvSpPr>
              <p:cNvPr id="961" name=""/>
              <p:cNvSpPr/>
              <p:nvPr/>
            </p:nvSpPr>
            <p:spPr>
              <a:xfrm>
                <a:off x="6400800" y="120060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61608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69060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9060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690600" y="112824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9692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04268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4268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042680" y="112824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2132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9440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9440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394400" y="112824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730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4648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74648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46480" y="112824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86160" y="120384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00800" y="154944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482160" y="143964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555600" y="141300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55600" y="135540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55600" y="131184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83388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0732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0732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07320" y="131184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8596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25940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5940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259400" y="131184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3804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12560" y="141300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12560" y="135540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12560" y="131184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477120" y="160308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7848720" y="2209680"/>
            <a:ext cx="13716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752480" y="22860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3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924680" y="2666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686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Especial de Desarrollo de Canales por Línea de Negocio de Producto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   Argentina</a:t>
            </a:r>
            <a:br>
              <a:rPr sz="3200"/>
            </a:b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62120" y="3886200"/>
            <a:ext cx="3124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checkmark" descr=""/>
          <p:cNvPicPr/>
          <p:nvPr/>
        </p:nvPicPr>
        <p:blipFill>
          <a:blip r:embed="rId2"/>
          <a:stretch/>
        </p:blipFill>
        <p:spPr>
          <a:xfrm>
            <a:off x="609480" y="2610000"/>
            <a:ext cx="4572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76320" y="2666880"/>
          <a:ext cx="7924680" cy="40388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6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007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00640" y="41893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0" y="1523880"/>
            <a:ext cx="8305560" cy="930600"/>
            <a:chOff x="0" y="1523880"/>
            <a:chExt cx="8305560" cy="930600"/>
          </a:xfrm>
        </p:grpSpPr>
        <p:grpSp>
          <p:nvGrpSpPr>
            <p:cNvPr id="1015" name=""/>
            <p:cNvGrpSpPr/>
            <p:nvPr/>
          </p:nvGrpSpPr>
          <p:grpSpPr>
            <a:xfrm>
              <a:off x="48240" y="1523880"/>
              <a:ext cx="1828800" cy="693360"/>
              <a:chOff x="48240" y="1523880"/>
              <a:chExt cx="1828800" cy="6933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8240" y="157500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288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1000" y="159516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1000" y="155448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1000" y="152388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4116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7840" y="159516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840" y="155448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840" y="152388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0087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08504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08504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085040" y="152388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3759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45260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45260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452600" y="152388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98400" y="157752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8240" y="182160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2840" y="174384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9520" y="172512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9520" y="168444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09520" y="165348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04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7708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7708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77080" y="165348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676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94392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94392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943920" y="165348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2348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312560" y="172512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312560" y="168444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312560" y="165348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1563840" y="1530360"/>
              <a:ext cx="1936800" cy="685440"/>
              <a:chOff x="1563840" y="1530360"/>
              <a:chExt cx="1936800" cy="685440"/>
            </a:xfrm>
          </p:grpSpPr>
          <p:sp>
            <p:nvSpPr>
              <p:cNvPr id="1052" name=""/>
              <p:cNvSpPr/>
              <p:nvPr/>
            </p:nvSpPr>
            <p:spPr>
              <a:xfrm>
                <a:off x="1563840" y="158076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8018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8424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88424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84240" y="153036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920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27340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27340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273400" y="153036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808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62200" y="160092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62200" y="156060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62200" y="153036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9700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051000" y="160092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051000" y="156060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051000" y="153036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201480" y="158436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63840" y="182412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653840" y="174744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35200" y="172872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35200" y="168876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35200" y="165816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0430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24000" y="172872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124000" y="16887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24000" y="165816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43144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12800" y="172872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12800" y="16887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12800" y="165816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206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902680" y="172872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902680" y="168876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902680" y="165816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3205440" y="1523880"/>
              <a:ext cx="2023920" cy="691200"/>
              <a:chOff x="3205440" y="1523880"/>
              <a:chExt cx="2023920" cy="691200"/>
            </a:xfrm>
          </p:grpSpPr>
          <p:sp>
            <p:nvSpPr>
              <p:cNvPr id="1088" name=""/>
              <p:cNvSpPr/>
              <p:nvPr/>
            </p:nvSpPr>
            <p:spPr>
              <a:xfrm>
                <a:off x="3205440" y="157464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3454920" y="1523880"/>
                <a:ext cx="357480" cy="148680"/>
                <a:chOff x="3454920" y="152388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34549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3540240" y="1523880"/>
                  <a:ext cx="268560" cy="137520"/>
                  <a:chOff x="3540240" y="152388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35402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5402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5402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3861720" y="1523880"/>
                <a:ext cx="357480" cy="148680"/>
                <a:chOff x="3861720" y="152388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8617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3947040" y="1523880"/>
                  <a:ext cx="268560" cy="137520"/>
                  <a:chOff x="3947040" y="152388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39470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70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470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1" name=""/>
              <p:cNvGrpSpPr/>
              <p:nvPr/>
            </p:nvGrpSpPr>
            <p:grpSpPr>
              <a:xfrm>
                <a:off x="4268160" y="1523880"/>
                <a:ext cx="357480" cy="148680"/>
                <a:chOff x="4268160" y="1523880"/>
                <a:chExt cx="357480" cy="1486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42681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3" name=""/>
                <p:cNvGrpSpPr/>
                <p:nvPr/>
              </p:nvGrpSpPr>
              <p:grpSpPr>
                <a:xfrm>
                  <a:off x="4353480" y="1523880"/>
                  <a:ext cx="268560" cy="137520"/>
                  <a:chOff x="4353480" y="1523880"/>
                  <a:chExt cx="268560" cy="13752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43534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3534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3534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7" name=""/>
              <p:cNvGrpSpPr/>
              <p:nvPr/>
            </p:nvGrpSpPr>
            <p:grpSpPr>
              <a:xfrm>
                <a:off x="4674960" y="1523880"/>
                <a:ext cx="357480" cy="148680"/>
                <a:chOff x="4674960" y="1523880"/>
                <a:chExt cx="357480" cy="1486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6749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4760280" y="1523880"/>
                  <a:ext cx="268560" cy="137520"/>
                  <a:chOff x="4760280" y="1523880"/>
                  <a:chExt cx="268560" cy="13752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>
                    <a:off x="47602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7602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7602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13" name=""/>
              <p:cNvSpPr/>
              <p:nvPr/>
            </p:nvSpPr>
            <p:spPr>
              <a:xfrm>
                <a:off x="4917240" y="157824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05440" y="181980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3299040" y="1652760"/>
                <a:ext cx="357480" cy="148680"/>
                <a:chOff x="3299040" y="1652760"/>
                <a:chExt cx="357480" cy="1486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329904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3384360" y="1652760"/>
                  <a:ext cx="268560" cy="137520"/>
                  <a:chOff x="3384360" y="1652760"/>
                  <a:chExt cx="268560" cy="13752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338436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38436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38436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1" name=""/>
              <p:cNvGrpSpPr/>
              <p:nvPr/>
            </p:nvGrpSpPr>
            <p:grpSpPr>
              <a:xfrm>
                <a:off x="3705480" y="1652760"/>
                <a:ext cx="357480" cy="148680"/>
                <a:chOff x="3705480" y="1652760"/>
                <a:chExt cx="357480" cy="1486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37054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3" name=""/>
                <p:cNvGrpSpPr/>
                <p:nvPr/>
              </p:nvGrpSpPr>
              <p:grpSpPr>
                <a:xfrm>
                  <a:off x="3790800" y="1652760"/>
                  <a:ext cx="268560" cy="137520"/>
                  <a:chOff x="3790800" y="1652760"/>
                  <a:chExt cx="268560" cy="137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37908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7908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7908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"/>
              <p:cNvGrpSpPr/>
              <p:nvPr/>
            </p:nvGrpSpPr>
            <p:grpSpPr>
              <a:xfrm>
                <a:off x="4111920" y="1652760"/>
                <a:ext cx="357480" cy="148680"/>
                <a:chOff x="4111920" y="1652760"/>
                <a:chExt cx="357480" cy="1486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11192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4197240" y="1652760"/>
                  <a:ext cx="268560" cy="137520"/>
                  <a:chOff x="4197240" y="1652760"/>
                  <a:chExt cx="268560" cy="1375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419724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19724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19724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3" name=""/>
              <p:cNvGrpSpPr/>
              <p:nvPr/>
            </p:nvGrpSpPr>
            <p:grpSpPr>
              <a:xfrm>
                <a:off x="4519080" y="1652760"/>
                <a:ext cx="357480" cy="148680"/>
                <a:chOff x="4519080" y="1652760"/>
                <a:chExt cx="357480" cy="1486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5190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5" name=""/>
                <p:cNvGrpSpPr/>
                <p:nvPr/>
              </p:nvGrpSpPr>
              <p:grpSpPr>
                <a:xfrm>
                  <a:off x="4604400" y="1652760"/>
                  <a:ext cx="268560" cy="137520"/>
                  <a:chOff x="4604400" y="1652760"/>
                  <a:chExt cx="268560" cy="13752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6044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6044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6044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9" name=""/>
            <p:cNvGrpSpPr/>
            <p:nvPr/>
          </p:nvGrpSpPr>
          <p:grpSpPr>
            <a:xfrm>
              <a:off x="4880880" y="1531440"/>
              <a:ext cx="1946520" cy="685800"/>
              <a:chOff x="4880880" y="1531440"/>
              <a:chExt cx="1946520" cy="68580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80880" y="158184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20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2030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030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03080" y="153144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51232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5936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936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93680" y="153144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03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8464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98464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984640" y="153144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38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37560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37560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375600" y="153144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527160" y="158544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80880" y="182520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971240" y="174852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052960" y="172980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052960" y="16898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052960" y="165924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622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39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39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43920" y="165924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528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45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45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4520" y="165924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4376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226560" y="172980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26560" y="16898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226560" y="165924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1839240" y="192888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37800" y="192888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7840" y="192888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185220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507720" y="1531440"/>
              <a:ext cx="1797840" cy="685800"/>
              <a:chOff x="6507720" y="1531440"/>
              <a:chExt cx="1797840" cy="685800"/>
            </a:xfrm>
          </p:grpSpPr>
          <p:sp>
            <p:nvSpPr>
              <p:cNvPr id="1180" name=""/>
              <p:cNvSpPr/>
              <p:nvPr/>
            </p:nvSpPr>
            <p:spPr>
              <a:xfrm>
                <a:off x="6507720" y="158184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2876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80508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80508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05080" y="153144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0909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6616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16616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66160" y="153144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5200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2724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2724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27240" y="153144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8127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88832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88832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888320" y="153144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31600" y="158436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507720" y="182592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591240" y="174888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666480" y="173052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66480" y="169020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66480" y="165960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95232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02756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02756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27560" y="165960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31340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38864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8864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88640" y="165960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7448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750800" y="173052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750800" y="169020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0800" y="165960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6646680" y="186336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666880" y="304812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350532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666880" y="43434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48006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666880" y="57150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" y="61722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04920" y="320040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449568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4920" y="5800680"/>
            <a:ext cx="1371600" cy="6001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226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ebb11f"/>
                </a:solidFill>
                <a:latin typeface="Arial"/>
              </a:rPr>
              <a:t>Technicals Certifications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76320" y="2666880"/>
          <a:ext cx="7924680" cy="419112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4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235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00640" y="4189320"/>
              <a:ext cx="1371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1243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280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316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9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3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5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9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1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5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7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41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5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9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5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7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63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7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368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3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408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3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445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638680" y="32004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 ASE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8120" y="449568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638680" y="44956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 Fu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48120" y="5486400"/>
            <a:ext cx="19810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s.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(319) Multivend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 UNi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638680" y="5486400"/>
            <a:ext cx="19814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048120" y="320040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320976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45100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6480" y="58816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686800" y="1752480"/>
            <a:ext cx="30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1" name=""/>
          <p:cNvGrpSpPr/>
          <p:nvPr/>
        </p:nvGrpSpPr>
        <p:grpSpPr>
          <a:xfrm>
            <a:off x="8001000" y="2666880"/>
            <a:ext cx="1371240" cy="3390120"/>
            <a:chOff x="8001000" y="2666880"/>
            <a:chExt cx="1371240" cy="3390120"/>
          </a:xfrm>
        </p:grpSpPr>
        <p:sp>
          <p:nvSpPr>
            <p:cNvPr id="1462" name=""/>
            <p:cNvSpPr/>
            <p:nvPr/>
          </p:nvSpPr>
          <p:spPr>
            <a:xfrm>
              <a:off x="8072640" y="26668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072640" y="3902040"/>
              <a:ext cx="1299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01000" y="54100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72640" y="503064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72640" y="373536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8077320" y="259092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410080" y="6400800"/>
            <a:ext cx="2286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124080" y="6172200"/>
            <a:ext cx="1828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Product Sales Knowledge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76320" y="2590920"/>
          <a:ext cx="8001000" cy="42670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2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0" y="1436760"/>
            <a:ext cx="8305560" cy="930600"/>
            <a:chOff x="0" y="1436760"/>
            <a:chExt cx="8305560" cy="930600"/>
          </a:xfrm>
        </p:grpSpPr>
        <p:grpSp>
          <p:nvGrpSpPr>
            <p:cNvPr id="1474" name=""/>
            <p:cNvGrpSpPr/>
            <p:nvPr/>
          </p:nvGrpSpPr>
          <p:grpSpPr>
            <a:xfrm>
              <a:off x="48240" y="1436760"/>
              <a:ext cx="1828800" cy="693360"/>
              <a:chOff x="48240" y="1436760"/>
              <a:chExt cx="1828800" cy="693360"/>
            </a:xfrm>
          </p:grpSpPr>
          <p:sp>
            <p:nvSpPr>
              <p:cNvPr id="1475" name=""/>
              <p:cNvSpPr/>
              <p:nvPr/>
            </p:nvSpPr>
            <p:spPr>
              <a:xfrm>
                <a:off x="48240" y="148788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7288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51000" y="150804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51000" y="146736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51000" y="143676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4116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17840" y="150804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17840" y="146736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17840" y="143676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0087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08504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08504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085040" y="143676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3759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45260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5260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452600" y="143676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598400" y="149040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8240" y="173448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32840" y="165672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09520" y="163800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09520" y="159732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09520" y="156636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004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7708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708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7080" y="156636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676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94392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4392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43920" y="156636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2348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312560" y="163800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312560" y="159732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312560" y="156636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1563840" y="1443240"/>
              <a:ext cx="1936800" cy="685440"/>
              <a:chOff x="1563840" y="1443240"/>
              <a:chExt cx="1936800" cy="685440"/>
            </a:xfrm>
          </p:grpSpPr>
          <p:sp>
            <p:nvSpPr>
              <p:cNvPr id="1511" name=""/>
              <p:cNvSpPr/>
              <p:nvPr/>
            </p:nvSpPr>
            <p:spPr>
              <a:xfrm>
                <a:off x="1563840" y="149364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018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8424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88424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884240" y="144324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1920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27340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27340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73400" y="144324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808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662200" y="151380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662200" y="147348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662200" y="144324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9700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051000" y="151380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051000" y="147348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051000" y="144324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01480" y="149724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563840" y="173700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653840" y="166032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735200" y="164160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35200" y="160164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35200" y="157104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0430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24000" y="164160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124000" y="16016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24000" y="157104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43144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512800" y="164160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512800" y="16016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512800" y="157104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8206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902680" y="164160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02680" y="160164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2680" y="157104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3205440" y="1436760"/>
              <a:ext cx="2023920" cy="691200"/>
              <a:chOff x="3205440" y="1436760"/>
              <a:chExt cx="2023920" cy="691200"/>
            </a:xfrm>
          </p:grpSpPr>
          <p:sp>
            <p:nvSpPr>
              <p:cNvPr id="1547" name=""/>
              <p:cNvSpPr/>
              <p:nvPr/>
            </p:nvSpPr>
            <p:spPr>
              <a:xfrm>
                <a:off x="3205440" y="148752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8" name=""/>
              <p:cNvGrpSpPr/>
              <p:nvPr/>
            </p:nvGrpSpPr>
            <p:grpSpPr>
              <a:xfrm>
                <a:off x="3454920" y="1436760"/>
                <a:ext cx="357480" cy="148680"/>
                <a:chOff x="3454920" y="1436760"/>
                <a:chExt cx="357480" cy="14868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34549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"/>
                <p:cNvGrpSpPr/>
                <p:nvPr/>
              </p:nvGrpSpPr>
              <p:grpSpPr>
                <a:xfrm>
                  <a:off x="3540240" y="1436760"/>
                  <a:ext cx="268560" cy="137520"/>
                  <a:chOff x="3540240" y="1436760"/>
                  <a:chExt cx="268560" cy="1375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35402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35402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35402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4" name=""/>
              <p:cNvGrpSpPr/>
              <p:nvPr/>
            </p:nvGrpSpPr>
            <p:grpSpPr>
              <a:xfrm>
                <a:off x="3861720" y="1436760"/>
                <a:ext cx="357480" cy="148680"/>
                <a:chOff x="3861720" y="1436760"/>
                <a:chExt cx="357480" cy="14868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38617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6" name=""/>
                <p:cNvGrpSpPr/>
                <p:nvPr/>
              </p:nvGrpSpPr>
              <p:grpSpPr>
                <a:xfrm>
                  <a:off x="3947040" y="1436760"/>
                  <a:ext cx="268560" cy="137520"/>
                  <a:chOff x="3947040" y="1436760"/>
                  <a:chExt cx="268560" cy="13752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>
                    <a:off x="39470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39470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39470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0" name=""/>
              <p:cNvGrpSpPr/>
              <p:nvPr/>
            </p:nvGrpSpPr>
            <p:grpSpPr>
              <a:xfrm>
                <a:off x="4268160" y="1436760"/>
                <a:ext cx="357480" cy="148680"/>
                <a:chOff x="4268160" y="1436760"/>
                <a:chExt cx="357480" cy="1486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42681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2" name=""/>
                <p:cNvGrpSpPr/>
                <p:nvPr/>
              </p:nvGrpSpPr>
              <p:grpSpPr>
                <a:xfrm>
                  <a:off x="4353480" y="1436760"/>
                  <a:ext cx="268560" cy="137520"/>
                  <a:chOff x="4353480" y="1436760"/>
                  <a:chExt cx="268560" cy="13752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>
                    <a:off x="43534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43534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43534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6" name=""/>
              <p:cNvGrpSpPr/>
              <p:nvPr/>
            </p:nvGrpSpPr>
            <p:grpSpPr>
              <a:xfrm>
                <a:off x="4674960" y="1436760"/>
                <a:ext cx="357480" cy="148680"/>
                <a:chOff x="4674960" y="1436760"/>
                <a:chExt cx="357480" cy="1486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6749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760280" y="1436760"/>
                  <a:ext cx="268560" cy="137520"/>
                  <a:chOff x="4760280" y="1436760"/>
                  <a:chExt cx="268560" cy="1375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7602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7602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7602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2" name=""/>
              <p:cNvSpPr/>
              <p:nvPr/>
            </p:nvSpPr>
            <p:spPr>
              <a:xfrm>
                <a:off x="4917240" y="149112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05440" y="173268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3299040" y="1565640"/>
                <a:ext cx="357480" cy="148680"/>
                <a:chOff x="3299040" y="1565640"/>
                <a:chExt cx="357480" cy="14868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329904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3384360" y="1565640"/>
                  <a:ext cx="268560" cy="137520"/>
                  <a:chOff x="3384360" y="1565640"/>
                  <a:chExt cx="268560" cy="13752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338436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38436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338436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0" name=""/>
              <p:cNvGrpSpPr/>
              <p:nvPr/>
            </p:nvGrpSpPr>
            <p:grpSpPr>
              <a:xfrm>
                <a:off x="3705480" y="1565640"/>
                <a:ext cx="357480" cy="148680"/>
                <a:chOff x="3705480" y="1565640"/>
                <a:chExt cx="357480" cy="14868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7054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3790800" y="1565640"/>
                  <a:ext cx="268560" cy="137520"/>
                  <a:chOff x="3790800" y="1565640"/>
                  <a:chExt cx="268560" cy="137520"/>
                </a:xfrm>
              </p:grpSpPr>
              <p:sp>
                <p:nvSpPr>
                  <p:cNvPr id="1583" name=""/>
                  <p:cNvSpPr/>
                  <p:nvPr/>
                </p:nvSpPr>
                <p:spPr>
                  <a:xfrm>
                    <a:off x="37908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37908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7908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6" name=""/>
              <p:cNvGrpSpPr/>
              <p:nvPr/>
            </p:nvGrpSpPr>
            <p:grpSpPr>
              <a:xfrm>
                <a:off x="4111920" y="1565640"/>
                <a:ext cx="357480" cy="148680"/>
                <a:chOff x="4111920" y="1565640"/>
                <a:chExt cx="357480" cy="1486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411192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8" name=""/>
                <p:cNvGrpSpPr/>
                <p:nvPr/>
              </p:nvGrpSpPr>
              <p:grpSpPr>
                <a:xfrm>
                  <a:off x="4197240" y="1565640"/>
                  <a:ext cx="268560" cy="137520"/>
                  <a:chOff x="4197240" y="1565640"/>
                  <a:chExt cx="268560" cy="13752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419724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419724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419724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"/>
              <p:cNvGrpSpPr/>
              <p:nvPr/>
            </p:nvGrpSpPr>
            <p:grpSpPr>
              <a:xfrm>
                <a:off x="4519080" y="1565640"/>
                <a:ext cx="357480" cy="148680"/>
                <a:chOff x="4519080" y="1565640"/>
                <a:chExt cx="357480" cy="1486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45190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"/>
                <p:cNvGrpSpPr/>
                <p:nvPr/>
              </p:nvGrpSpPr>
              <p:grpSpPr>
                <a:xfrm>
                  <a:off x="4604400" y="1565640"/>
                  <a:ext cx="268560" cy="137520"/>
                  <a:chOff x="4604400" y="1565640"/>
                  <a:chExt cx="268560" cy="1375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46044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46044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46044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8" name=""/>
            <p:cNvGrpSpPr/>
            <p:nvPr/>
          </p:nvGrpSpPr>
          <p:grpSpPr>
            <a:xfrm>
              <a:off x="4880880" y="1444320"/>
              <a:ext cx="1946520" cy="685800"/>
              <a:chOff x="4880880" y="1444320"/>
              <a:chExt cx="1946520" cy="685800"/>
            </a:xfrm>
          </p:grpSpPr>
          <p:sp>
            <p:nvSpPr>
              <p:cNvPr id="1599" name=""/>
              <p:cNvSpPr/>
              <p:nvPr/>
            </p:nvSpPr>
            <p:spPr>
              <a:xfrm>
                <a:off x="4880880" y="149472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20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030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030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03080" y="144432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51232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936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5936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593680" y="144432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903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98464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98464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984640" y="144432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2938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37560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7560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75600" y="144432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527160" y="149832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880880" y="173808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71240" y="16614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052960" y="164268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052960" y="16027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052960" y="157212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3622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4439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4439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443920" y="157212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7528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8345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345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34520" y="157212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14376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226560" y="164268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226560" y="16027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226560" y="157212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1839240" y="184176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37800" y="184176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307840" y="184176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0" y="17650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6507720" y="1444320"/>
              <a:ext cx="1797840" cy="685800"/>
              <a:chOff x="6507720" y="1444320"/>
              <a:chExt cx="1797840" cy="685800"/>
            </a:xfrm>
          </p:grpSpPr>
          <p:sp>
            <p:nvSpPr>
              <p:cNvPr id="1639" name=""/>
              <p:cNvSpPr/>
              <p:nvPr/>
            </p:nvSpPr>
            <p:spPr>
              <a:xfrm>
                <a:off x="6507720" y="149472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72876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80508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80508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805080" y="144432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0909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6616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6616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66160" y="144432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45200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52724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52724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7240" y="144432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8127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8832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88832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888320" y="144432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31600" y="149724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507720" y="173880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591240" y="166176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666480" y="164340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666480" y="160308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666480" y="157248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5232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02756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02756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27560" y="157248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31340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8864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8864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388640" y="157248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67448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750800" y="164340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50800" y="160308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50800" y="157248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6646680" y="17762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8077320" y="685800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57200" y="32767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76320" y="2209680"/>
            <a:ext cx="8000640" cy="533520"/>
            <a:chOff x="76320" y="2209680"/>
            <a:chExt cx="8000640" cy="533520"/>
          </a:xfrm>
        </p:grpSpPr>
        <p:sp>
          <p:nvSpPr>
            <p:cNvPr id="1678" name=""/>
            <p:cNvSpPr/>
            <p:nvPr/>
          </p:nvSpPr>
          <p:spPr>
            <a:xfrm>
              <a:off x="7632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716920" y="220968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5824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-76320" y="2224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59092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2578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019920" y="3048120"/>
            <a:ext cx="12952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486400" y="4343400"/>
            <a:ext cx="2209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 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200400" y="411480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57200" y="449568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57200" y="60199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200400" y="5562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019920" y="3809880"/>
            <a:ext cx="129528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410080" y="5943600"/>
            <a:ext cx="22100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(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410080" y="5486400"/>
            <a:ext cx="2286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Track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 (559) (44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410080" y="5105520"/>
            <a:ext cx="2286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Prolia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990720" y="2895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990720" y="4038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990720" y="548640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stavo</cp:lastModifiedBy>
  <cp:lastPrinted>2000-08-21T15:23:38Z</cp:lastPrinted>
  <dcterms:modified xsi:type="dcterms:W3CDTF">2001-11-20T13:06:57Z</dcterms:modified>
  <cp:revision>559</cp:revision>
  <dc:subject/>
  <dc:title>Michael Capellas</dc:title>
</cp:coreProperties>
</file>