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858672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9960" y="3936600"/>
            <a:ext cx="858672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9960" y="39366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99880" y="39366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360" y="10368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06760" y="10368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9960" y="39366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360" y="39366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06760" y="39366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9960" y="1036800"/>
            <a:ext cx="858672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858672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98160" y="97920"/>
            <a:ext cx="783108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9960" y="39366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9960" y="1036800"/>
            <a:ext cx="858672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9880" y="39366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9960" y="3936600"/>
            <a:ext cx="858672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858672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9960" y="3936600"/>
            <a:ext cx="858672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9960" y="39366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99880" y="39366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3360" y="10368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06760" y="10368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99960" y="39366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3360" y="39366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06760" y="39366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30F92-26FA-44CB-8D6E-0AD871223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9960" y="1036800"/>
            <a:ext cx="858672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602BC-DEA1-4BC7-A338-AAA6B48C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858672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5ADCB-222A-4D5E-8679-518EB7D5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69A41-AE5A-41DD-A812-88686720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218D2-2860-44C8-8D61-E5FA2485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858672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98160" y="97920"/>
            <a:ext cx="783108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479A7-1036-425A-BC85-F7565729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99960" y="39366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A5C9B-5E60-4CDC-8ACB-17983D60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99880" y="39366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50899-66DD-4EE2-9556-4FE58D9A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99960" y="3936600"/>
            <a:ext cx="858672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F93D3-DFBF-453E-9349-A5804F39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858672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9960" y="3936600"/>
            <a:ext cx="858672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79C5F-E3F1-46A7-924A-8B668C61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99960" y="39366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99880" y="39366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D8278-BA24-4742-9F5B-C55B0030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03360" y="10368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06760" y="10368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99960" y="39366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03360" y="39366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06760" y="39366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0F3F8-67CA-499D-AD62-E5F6946E8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8160" y="97920"/>
            <a:ext cx="783108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9960" y="39366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99880" y="39366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9960" y="3936600"/>
            <a:ext cx="858672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9960" y="1036800"/>
            <a:ext cx="858672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Click to edit the outline text format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1" marL="345960" indent="-231480">
              <a:spcAft>
                <a:spcPts val="814"/>
              </a:spcAft>
              <a:buClr>
                <a:srgbClr val="6e6f72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econd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2" marL="692280" indent="-231840">
              <a:spcAft>
                <a:spcPts val="814"/>
              </a:spcAft>
              <a:buClr>
                <a:srgbClr val="6e6f72"/>
              </a:buClr>
              <a:buFont typeface="Futura B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Third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3" marL="1025640" indent="-219240">
              <a:spcAft>
                <a:spcPts val="814"/>
              </a:spcAft>
              <a:buClr>
                <a:srgbClr val="6e6f72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Four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4" marL="1149480" indent="-9720">
              <a:spcAft>
                <a:spcPts val="814"/>
              </a:spcAft>
              <a:buClr>
                <a:srgbClr val="b2b3b5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Fif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5" marL="1149480" indent="-9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ix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6" marL="1149480" indent="-9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even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3960" y="6638400"/>
            <a:ext cx="146376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48589"/>
                </a:solidFill>
                <a:latin typeface="Futura B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50760" y="6638400"/>
            <a:ext cx="390852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48589"/>
                </a:solidFill>
                <a:latin typeface="Futura B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"/>
          <p:cNvSpPr/>
          <p:nvPr/>
        </p:nvSpPr>
        <p:spPr>
          <a:xfrm>
            <a:off x="0" y="914400"/>
            <a:ext cx="257040" cy="5943600"/>
          </a:xfrm>
          <a:prstGeom prst="rect">
            <a:avLst/>
          </a:prstGeom>
          <a:solidFill>
            <a:srgbClr val="007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57040" cy="847800"/>
          </a:xfrm>
          <a:prstGeom prst="rect">
            <a:avLst/>
          </a:prstGeom>
          <a:solidFill>
            <a:srgbClr val="007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11376" b="0"/>
          <a:stretch/>
        </p:blipFill>
        <p:spPr>
          <a:xfrm>
            <a:off x="8329680" y="101520"/>
            <a:ext cx="655560" cy="6285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27800" y="0"/>
            <a:ext cx="27162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369120" cy="4809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3600" y="106020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46" name=""/>
          <p:cNvSpPr/>
          <p:nvPr/>
        </p:nvSpPr>
        <p:spPr>
          <a:xfrm>
            <a:off x="453960" y="6396120"/>
            <a:ext cx="59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© 2005 Hewlett-Packard Development Company, L.P.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389640" y="4097160"/>
            <a:ext cx="2486160" cy="1919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399960" y="1044720"/>
            <a:ext cx="8586720" cy="554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Click to edit the outline text format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1" marL="633240" indent="-518760">
              <a:spcAft>
                <a:spcPts val="814"/>
              </a:spcAft>
              <a:buClr>
                <a:srgbClr val="6e6f72"/>
              </a:buClr>
              <a:buFont typeface="Futura Bk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econd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2" marL="1090440" indent="-342720">
              <a:spcAft>
                <a:spcPts val="814"/>
              </a:spcAft>
              <a:buClr>
                <a:srgbClr val="6e6f72"/>
              </a:buClr>
              <a:buFont typeface="Futura Bk"/>
              <a:buAutoNum type="alphaL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Third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3" marL="1547640" indent="-342720">
              <a:spcAft>
                <a:spcPts val="814"/>
              </a:spcAft>
              <a:buClr>
                <a:srgbClr val="6e6f72"/>
              </a:buClr>
              <a:buFont typeface="Futura Bk"/>
              <a:buAutoNum type="arabi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Four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4" marL="2004840" indent="-342720">
              <a:spcAft>
                <a:spcPts val="814"/>
              </a:spcAft>
              <a:buClr>
                <a:srgbClr val="b2b3b5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Fif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5" marL="2004840" indent="-342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ix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6" marL="2004840" indent="-342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even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453960" y="6638400"/>
            <a:ext cx="146376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e6f72"/>
                </a:solidFill>
                <a:latin typeface="Futura B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e6f72"/>
                </a:solidFill>
                <a:latin typeface="Futura B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4"/>
          </p:nvPr>
        </p:nvSpPr>
        <p:spPr>
          <a:xfrm>
            <a:off x="2750760" y="6638400"/>
            <a:ext cx="390852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e6f72"/>
                </a:solidFill>
                <a:latin typeface="Futura B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e6f72"/>
                </a:solidFill>
                <a:latin typeface="Futura B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5"/>
          </p:nvPr>
        </p:nvSpPr>
        <p:spPr>
          <a:xfrm>
            <a:off x="8224920" y="6638400"/>
            <a:ext cx="76176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e6f72"/>
                </a:solidFill>
                <a:latin typeface="Futura Hv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9A7D-E438-4040-A42C-46C0B009E3F7}" type="slidenum">
              <a:rPr b="0" lang="en-US" sz="1200" spc="-1" strike="noStrike">
                <a:solidFill>
                  <a:srgbClr val="6e6f72"/>
                </a:solidFill>
                <a:latin typeface="Futura Hv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8" name=""/>
          <p:cNvSpPr/>
          <p:nvPr/>
        </p:nvSpPr>
        <p:spPr>
          <a:xfrm>
            <a:off x="0" y="914400"/>
            <a:ext cx="257040" cy="5943600"/>
          </a:xfrm>
          <a:prstGeom prst="rect">
            <a:avLst/>
          </a:prstGeom>
          <a:solidFill>
            <a:srgbClr val="007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257040" cy="847800"/>
          </a:xfrm>
          <a:prstGeom prst="rect">
            <a:avLst/>
          </a:prstGeom>
          <a:solidFill>
            <a:srgbClr val="007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rcRect l="0" t="0" r="11376" b="0"/>
          <a:stretch/>
        </p:blipFill>
        <p:spPr>
          <a:xfrm>
            <a:off x="8329680" y="101520"/>
            <a:ext cx="655560" cy="62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p.com/servers/proliantdl180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brent.allen@hp.com" TargetMode="External"/><Relationship Id="rId3" Type="http://schemas.openxmlformats.org/officeDocument/2006/relationships/hyperlink" Target="mailto:tim.golden@hp.com" TargetMode="External"/><Relationship Id="rId4" Type="http://schemas.openxmlformats.org/officeDocument/2006/relationships/hyperlink" Target="mailto:tony.bunn@hp.com" TargetMode="External"/><Relationship Id="rId5" Type="http://schemas.openxmlformats.org/officeDocument/2006/relationships/hyperlink" Target="mailto:naren@hp.com" TargetMode="External"/><Relationship Id="rId6" Type="http://schemas.openxmlformats.org/officeDocument/2006/relationships/hyperlink" Target="mailto:Iekazu.okano@hp.com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257040" y="846000"/>
          <a:ext cx="8886960" cy="6012000"/>
        </p:xfrm>
        <a:graphic>
          <a:graphicData uri="http://schemas.openxmlformats.org/drawingml/2006/table">
            <a:tbl>
              <a:tblPr/>
              <a:tblGrid>
                <a:gridCol w="2949840"/>
                <a:gridCol w="2973240"/>
                <a:gridCol w="2963880"/>
              </a:tblGrid>
              <a:tr h="60120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1. What is n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The DL180 G5 server is an Intel-based, 2P, 2U form factor, rack-mount server with up to two Intel Xeon 5200 or 5400 sequence dual-core or quad-core processor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On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Futura Md"/>
                        </a:rPr>
                        <a:t>11 February 2008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, HP will announce the ProLiant DL180 G5 server as follows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Hv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71b5"/>
                          </a:solidFill>
                          <a:latin typeface="Futura Hv"/>
                        </a:rPr>
                        <a:t>Processor refresh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 — Up to two (2) Intel Xeon 5400 sequence quad-core processors running up to 2.66GHz with 8MB Level 2 Cache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Hv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71b5"/>
                          </a:solidFill>
                          <a:latin typeface="Futura Hv"/>
                        </a:rPr>
                        <a:t>Options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Hv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—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5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2. At-a-gl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Hv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Available processors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 — Intel Xeon E5200 or E5400 sequence dual-core or quad-core processor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2" marL="457200" indent="-114120">
                        <a:lnSpc>
                          <a:spcPct val="9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Bk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Model E5430 2.66GHz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 – 8MB quad co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2" marL="457200" indent="-114120">
                        <a:lnSpc>
                          <a:spcPct val="9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Bk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Model E5420 2.50GHz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– 8MB quad co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2" marL="457200" indent="-114120">
                        <a:lnSpc>
                          <a:spcPct val="9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Bk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Model E5405 2.00GHz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– 8MB quad co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2" marL="457200" indent="-114120">
                        <a:lnSpc>
                          <a:spcPct val="9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Bk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Model E5205 1.86GHz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– dual co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Hv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Processor capacity</a:t>
                      </a:r>
                      <a:r>
                        <a:rPr b="0" lang="en-US" sz="900" spc="-1" strike="noStrike">
                          <a:solidFill>
                            <a:srgbClr val="0071b5"/>
                          </a:solidFill>
                          <a:latin typeface="Futura Hv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— 2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Hv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Form factor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 — 2U, rac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Hv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Memory type, protection, and capacity</a:t>
                      </a:r>
                      <a:r>
                        <a:rPr b="0" lang="en-US" sz="900" spc="-1" strike="noStrike">
                          <a:solidFill>
                            <a:srgbClr val="0071b5"/>
                          </a:solidFill>
                          <a:latin typeface="Futura Hv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— PC2-5300 DDR2, registered ECC, 16GB maximum mem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Hv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I/O</a:t>
                      </a:r>
                      <a:r>
                        <a:rPr b="0" lang="en-US" sz="900" spc="-1" strike="noStrike">
                          <a:solidFill>
                            <a:srgbClr val="0071b5"/>
                          </a:solidFill>
                          <a:latin typeface="Futura Hv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— One available low profile x8 PCI-Express slot with 8 lanes using a low profile riser, two full height/ full length riser options: Option1: full-length/full-height PCI-Express with two x8 slots with two x4 lanes (standard) Option2: full-length/full-height riser with 2x PCI-X slots (optiona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Hv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Storage type</a:t>
                      </a:r>
                      <a:r>
                        <a:rPr b="0" lang="en-US" sz="900" spc="-1" strike="noStrike">
                          <a:solidFill>
                            <a:srgbClr val="0071b5"/>
                          </a:solidFill>
                          <a:latin typeface="Futura Bk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— Hot plug SATA / S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Hv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Storage controller</a:t>
                      </a:r>
                      <a:r>
                        <a:rPr b="0" lang="en-US" sz="900" spc="-1" strike="noStrike">
                          <a:solidFill>
                            <a:srgbClr val="0071b5"/>
                          </a:solidFill>
                          <a:latin typeface="Futura Hv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— HP Embedded SATA RAID controller on non-hot Plug SATA models, HP 8 internal port SAS HBA with RAID 0,1 on Hot Plug SAS/SATA Models, HP Smart Array E200 Controller, HP Smart Array P400 Controller, HP Smart Array P800 Controller, HP SC11Xe and SC44Ge Host Bus Adap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2" marL="457200" indent="-114120">
                        <a:lnSpc>
                          <a:spcPct val="9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33280" indent="-118800">
                        <a:lnSpc>
                          <a:spcPct val="9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Hv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Remote management</a:t>
                      </a:r>
                      <a:r>
                        <a:rPr b="0" lang="en-US" sz="900" spc="-1" strike="noStrike">
                          <a:solidFill>
                            <a:srgbClr val="0071b5"/>
                          </a:solidFill>
                          <a:latin typeface="Futura Hv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— HP Lights-Out 100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33280" indent="-118800">
                        <a:lnSpc>
                          <a:spcPct val="9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Hv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High availability</a:t>
                      </a:r>
                      <a:r>
                        <a:rPr b="0" lang="en-US" sz="900" spc="-1" strike="noStrike">
                          <a:solidFill>
                            <a:srgbClr val="0071b5"/>
                          </a:solidFill>
                          <a:latin typeface="Futura Hv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— 750W and 1200W power supply (redundant non-hot Plug, auto switching), 1200W power supply is optional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33280" indent="-118800">
                        <a:lnSpc>
                          <a:spcPct val="9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Hv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Warranty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— 1-1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5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3. Customer opportun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Hv"/>
                        </a:rPr>
                        <a:t>Look for customers with the following business challenges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Growing businesses with expandability requirements who need </a:t>
                      </a:r>
                      <a:r>
                        <a:rPr b="0" lang="en-US" sz="1000" spc="-1" strike="noStrike">
                          <a:solidFill>
                            <a:srgbClr val="00558e"/>
                          </a:solidFill>
                          <a:latin typeface="Futura Hv"/>
                          <a:ea typeface="ＭＳ Ｐゴシック"/>
                        </a:rPr>
                        <a:t>large internal storage capacity. </a:t>
                      </a:r>
                      <a:r>
                        <a:rPr b="0" i="1" lang="en-US" sz="10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Why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33280" indent="-118800"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The DL180 G5 server includes a mixture of PCI-X and x8 PCI-Express I/O slots which allows users to choose the expansion card technology. The DL180 G5 also includes SAS and SATA internal storage options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Ｐゴシック"/>
                        </a:rPr>
                        <a:t> which provides up to 3.6TB and 9TB of storage, respectively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2" marL="457200" indent="-109440">
                        <a:lnSpc>
                          <a:spcPct val="100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Bk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Customer benefit</a:t>
                      </a:r>
                      <a:r>
                        <a:rPr b="0" i="1" lang="en-US" sz="9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: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 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Provides customers with the option to grow their hardware requirements as their business grow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Small and medium businesses adding low-cost/high-capacity storage technologies. </a:t>
                      </a:r>
                      <a:r>
                        <a:rPr b="0" i="1" lang="en-US" sz="10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Why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33280" indent="-118800"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The DL180 G5 server offers customers the flexibility of using universal hard drives for storage, either 12 – 300GB SAS drives or 12 – 750GB SATA drives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2" marL="457200" indent="-109440">
                        <a:lnSpc>
                          <a:spcPct val="100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Bk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Customer benefit</a:t>
                      </a:r>
                      <a:r>
                        <a:rPr b="0" i="1" lang="en-US" sz="9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: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 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Commonality focus, within and across platforms, increases IT productivity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lvl="1" marL="228600" indent="-114120">
                        <a:lnSpc>
                          <a:spcPct val="85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100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  <a:ea typeface="ＭＳ Ｐゴシック"/>
                        </a:rPr>
                        <a:t>Space-constrained corporate datacenters and large scale service providers. </a:t>
                      </a:r>
                      <a:r>
                        <a:rPr b="0" i="1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Why?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The DL180 G5 server fits all the storage, memory, and I/O features into a 2U rack. Features such as an a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Ｐゴシック"/>
                        </a:rPr>
                        <a:t>mbidextrous cable management, quick deploy rail solution, q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uick release levers, and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Ｐゴシック"/>
                        </a:rPr>
                        <a:t>t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ool-free modular components provide fast access,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Ｐゴシック"/>
                        </a:rPr>
                        <a:t>making racking easier in space constrained datacenters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2" marL="457200" indent="-114120">
                        <a:lnSpc>
                          <a:spcPct val="100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Font typeface="Futura Bk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Customer benefit</a:t>
                      </a:r>
                      <a:r>
                        <a:rPr b="0" i="1" lang="en-US" sz="9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: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 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The DL180 G5 server is an affordable, space-saving solution that is ideal for customers who need to maximize space. Features enhance reliability and simplifies configuration, maintenance, and provides easy access to components.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85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4. Qualifying the custom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8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Green light deals (must wi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8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The customer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8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Cost conscious SMB or growing busin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8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eeds expandability and large storage capacity at a low co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8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Interested in a rack mount solu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8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Yellow light deals (more qualificatio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8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The customer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8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ot spaced constrain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8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Does not need large storage capac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8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Red light deals (walk away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8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The customer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8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ot interested in a rack mount solu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85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5. Further information/resour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8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For QuickSpecs, white papers, and technical documentation, go to </a:t>
                      </a: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DL80 G5 on HP.c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85000"/>
                        </a:lnSpc>
                        <a:spcAft>
                          <a:spcPts val="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eb5f01"/>
                          </a:solidFill>
                          <a:uFillTx/>
                          <a:latin typeface="Futura Hv"/>
                          <a:hlinkClick r:id="rId1"/>
                        </a:rPr>
                        <a:t>http://www.hp.com/servers/proliantdl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HP ProLiant DL180 G5 Server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0" y="0"/>
            <a:ext cx="257040" cy="6858000"/>
            <a:chOff x="0" y="0"/>
            <a:chExt cx="257040" cy="6858000"/>
          </a:xfrm>
        </p:grpSpPr>
        <p:sp>
          <p:nvSpPr>
            <p:cNvPr id="131" name=""/>
            <p:cNvSpPr/>
            <p:nvPr/>
          </p:nvSpPr>
          <p:spPr>
            <a:xfrm>
              <a:off x="0" y="914400"/>
              <a:ext cx="257040" cy="5943600"/>
            </a:xfrm>
            <a:prstGeom prst="rect">
              <a:avLst/>
            </a:prstGeom>
            <a:solidFill>
              <a:srgbClr val="007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0"/>
              <a:ext cx="257040" cy="847800"/>
            </a:xfrm>
            <a:prstGeom prst="rect">
              <a:avLst/>
            </a:prstGeom>
            <a:solidFill>
              <a:srgbClr val="007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pic>
        <p:nvPicPr>
          <p:cNvPr id="133" name="" descr=""/>
          <p:cNvPicPr/>
          <p:nvPr/>
        </p:nvPicPr>
        <p:blipFill>
          <a:blip r:embed="rId2"/>
          <a:srcRect l="0" t="0" r="11376" b="0"/>
          <a:stretch/>
        </p:blipFill>
        <p:spPr>
          <a:xfrm>
            <a:off x="8329680" y="101520"/>
            <a:ext cx="655560" cy="6285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874120" y="6534000"/>
            <a:ext cx="341604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utura Bk"/>
                <a:ea typeface="Arial Unicode MS"/>
              </a:rPr>
              <a:t>© 2007 Hewlett-Packard Development Company, L.P.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utura Bk"/>
              </a:rPr>
              <a:t>The information contained herein is subject to change without notice.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5" name=""/>
          <p:cNvSpPr/>
          <p:nvPr/>
        </p:nvSpPr>
        <p:spPr>
          <a:xfrm>
            <a:off x="6167520" y="3286080"/>
            <a:ext cx="142920" cy="142920"/>
          </a:xfrm>
          <a:prstGeom prst="ellips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6" name=""/>
          <p:cNvSpPr/>
          <p:nvPr/>
        </p:nvSpPr>
        <p:spPr>
          <a:xfrm>
            <a:off x="6138720" y="4152960"/>
            <a:ext cx="142920" cy="142920"/>
          </a:xfrm>
          <a:prstGeom prst="ellipse">
            <a:avLst/>
          </a:prstGeom>
          <a:solidFill>
            <a:srgbClr val="f2ab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7" name=""/>
          <p:cNvSpPr/>
          <p:nvPr/>
        </p:nvSpPr>
        <p:spPr>
          <a:xfrm>
            <a:off x="6148440" y="4762440"/>
            <a:ext cx="142920" cy="1429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-2866320" y="3707280"/>
            <a:ext cx="59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Hv"/>
              </a:rPr>
              <a:t>Quick reference card:</a:t>
            </a: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 HP and channel partner use only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479760" y="5530680"/>
            <a:ext cx="1835280" cy="91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Februar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HP ProLiant DL180 G5 Server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0" y="0"/>
            <a:ext cx="257040" cy="6858000"/>
            <a:chOff x="0" y="0"/>
            <a:chExt cx="257040" cy="6858000"/>
          </a:xfrm>
        </p:grpSpPr>
        <p:sp>
          <p:nvSpPr>
            <p:cNvPr id="142" name=""/>
            <p:cNvSpPr/>
            <p:nvPr/>
          </p:nvSpPr>
          <p:spPr>
            <a:xfrm>
              <a:off x="0" y="914400"/>
              <a:ext cx="257040" cy="5943600"/>
            </a:xfrm>
            <a:prstGeom prst="rect">
              <a:avLst/>
            </a:prstGeom>
            <a:solidFill>
              <a:srgbClr val="007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0"/>
              <a:ext cx="257040" cy="847800"/>
            </a:xfrm>
            <a:prstGeom prst="rect">
              <a:avLst/>
            </a:prstGeom>
            <a:solidFill>
              <a:srgbClr val="007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pic>
        <p:nvPicPr>
          <p:cNvPr id="144" name="" descr=""/>
          <p:cNvPicPr/>
          <p:nvPr/>
        </p:nvPicPr>
        <p:blipFill>
          <a:blip r:embed="rId1"/>
          <a:srcRect l="0" t="0" r="11376" b="0"/>
          <a:stretch/>
        </p:blipFill>
        <p:spPr>
          <a:xfrm>
            <a:off x="8329680" y="101520"/>
            <a:ext cx="655560" cy="628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874120" y="6534000"/>
            <a:ext cx="341604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utura Bk"/>
                <a:ea typeface="Arial Unicode MS"/>
              </a:rPr>
              <a:t>© 2007 Hewlett-Packard Development Company, L.P.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utura Bk"/>
              </a:rPr>
              <a:t>The information contained herein is subject to change without notice.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99960" y="1036800"/>
          <a:ext cx="8224920" cy="5574960"/>
        </p:xfrm>
        <a:graphic>
          <a:graphicData uri="http://schemas.openxmlformats.org/drawingml/2006/table">
            <a:tbl>
              <a:tblPr/>
              <a:tblGrid>
                <a:gridCol w="1604880"/>
                <a:gridCol w="3241800"/>
                <a:gridCol w="3378240"/>
              </a:tblGrid>
              <a:tr h="2311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Futura Hv"/>
                          <a:ea typeface="ＭＳ 明朝"/>
                        </a:rPr>
                        <a:t>HP ProLiant DL180 G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Futura Hv"/>
                          <a:ea typeface="ＭＳ 明朝"/>
                        </a:rPr>
                        <a:t>Dell PowerEdge 29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/>
                    </a:solidFill>
                  </a:tcPr>
                </a:tc>
              </a:tr>
              <a:tr h="2239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Futura Hv"/>
                          <a:ea typeface="ＭＳ 明朝"/>
                        </a:rPr>
                        <a:t>Form facto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Rack, 2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Rack, 2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</a:tr>
              <a:tr h="2239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Futura Hv"/>
                          <a:ea typeface="ＭＳ 明朝"/>
                        </a:rPr>
                        <a:t>Processor option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Intel Xeon 5400 (quad core) or 5200 (dual core) sequen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Intel Xeon 5300 (quad-core) or 5100 (dual-core) sequen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</a:tr>
              <a:tr h="2239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Futura Hv"/>
                          <a:ea typeface="ＭＳ 明朝"/>
                        </a:rPr>
                        <a:t>Max processor core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8 (5400 sequence), 4 (5200 sequence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8 (5300 sequence), 4 (5100 sequence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</a:tr>
              <a:tr h="2311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Futura Hv"/>
                          <a:ea typeface="ＭＳ 明朝"/>
                        </a:rPr>
                        <a:t>Cach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8MB (5400 sequence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5300 2x4MB, 5100 4MB, 5000 Sequence 2x2M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</a:tr>
              <a:tr h="2239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Futura Hv"/>
                          <a:ea typeface="ＭＳ 明朝"/>
                        </a:rPr>
                        <a:t>Memory min/ma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1GB / 16G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1GB / 32G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</a:tr>
              <a:tr h="2239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Futura Hv"/>
                          <a:ea typeface="ＭＳ 明朝"/>
                        </a:rPr>
                        <a:t>Memory typ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DDR2-667MH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FBD 533MHz or 667MH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</a:tr>
              <a:tr h="2239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Futura Hv"/>
                          <a:ea typeface="ＭＳ 明朝"/>
                        </a:rPr>
                        <a:t>Memory protection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Registered E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E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</a:tr>
              <a:tr h="2239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Futura Hv"/>
                          <a:ea typeface="ＭＳ 明朝"/>
                        </a:rPr>
                        <a:t>Disk typ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SATA, S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SATA, S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</a:tr>
              <a:tr h="40320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Futura Hv"/>
                          <a:ea typeface="ＭＳ 明朝"/>
                        </a:rPr>
                        <a:t>Bays information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Support for one (optional) multi-bay DV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Optional floppy (USB only, USB key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Hard drive b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</a:tr>
              <a:tr h="2239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Futura Hv"/>
                          <a:ea typeface="ＭＳ 明朝"/>
                        </a:rPr>
                        <a:t>Disk max intern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3.6TB SAS, 9TB SA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4.5T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</a:tr>
              <a:tr h="39600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Futura Hv"/>
                          <a:ea typeface="ＭＳ 明朝"/>
                        </a:rPr>
                        <a:t>RAID support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Option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457200"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Option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</a:tr>
              <a:tr h="2239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Futura Hv"/>
                          <a:ea typeface="ＭＳ 明朝"/>
                        </a:rPr>
                        <a:t>I/O technolog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PCI-Express, PCI-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PCI-Express, PCI-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</a:tr>
              <a:tr h="9601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Futura Hv"/>
                          <a:ea typeface="ＭＳ 明朝"/>
                        </a:rPr>
                        <a:t>I/O slot type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One low profile x8 PCI-Express slot with 8 lanes using a low profile riser, two full height/ full length riser options: Option1: full-length/full-height PCI-Express with two x8 slots with two x4 lanes (standard) Option2: full-length/full-height riser with 2x PCI-X slots (option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Three PCI slots, either PCIe riser with three PCI-Express slots (one x4 (x8 connector) and two x8) or two PCI-X 64-bit/133MHz and one PCI-Express x8 slo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</a:tr>
              <a:tr h="81468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Futura Hv"/>
                          <a:ea typeface="ＭＳ 明朝"/>
                        </a:rPr>
                        <a:t>High availability (hot swap, redundant power supply or fan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750W or 1200 W power supply (redundant non-hot plug, auto switching), 1200W is opt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AC configuration with standard single or redundant 750W hot-plug auto-switching universal 110/220V AC power supplies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DC configuration with redundant hot plug -48 to -60 V20 A DC power suppli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</a:tr>
              <a:tr h="97164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  <a:ea typeface="ＭＳ 明朝"/>
                        </a:rPr>
                        <a:t>Regional conta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WW — </a:t>
                      </a: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Brent Allen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, </a:t>
                      </a:r>
                      <a:r>
                        <a:rPr b="0" lang="en-US" sz="900" spc="-1" strike="noStrike" u="sng">
                          <a:solidFill>
                            <a:srgbClr val="eb5f01"/>
                          </a:solidFill>
                          <a:uFillTx/>
                          <a:latin typeface="Futura Bk"/>
                          <a:hlinkClick r:id="rId2"/>
                        </a:rPr>
                        <a:t>brent.allen@hp.c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US —  Tim Golden, </a:t>
                      </a:r>
                      <a:r>
                        <a:rPr b="0" lang="en-US" sz="900" spc="-1" strike="noStrike" u="sng">
                          <a:solidFill>
                            <a:srgbClr val="eb5f01"/>
                          </a:solidFill>
                          <a:uFillTx/>
                          <a:latin typeface="Futura Bk"/>
                          <a:hlinkClick r:id="rId3"/>
                        </a:rPr>
                        <a:t>tim.golden@hp.c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EMEA — </a:t>
                      </a: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Tony Bunn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, </a:t>
                      </a:r>
                      <a:r>
                        <a:rPr b="0" lang="en-US" sz="900" spc="-1" strike="noStrike" u="sng">
                          <a:solidFill>
                            <a:srgbClr val="eb5f01"/>
                          </a:solidFill>
                          <a:uFillTx/>
                          <a:latin typeface="Futura Bk"/>
                          <a:hlinkClick r:id="rId4"/>
                        </a:rPr>
                        <a:t>tony.bunn@hp.com</a:t>
                      </a:r>
                      <a:r>
                        <a:rPr b="0" lang="en-US" sz="900" spc="-1" strike="noStrike" u="sng">
                          <a:solidFill>
                            <a:srgbClr val="000000"/>
                          </a:solidFill>
                          <a:uFillTx/>
                          <a:latin typeface="Futura Bk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AP — </a:t>
                      </a: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Naren Nuggehalli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, </a:t>
                      </a:r>
                      <a:r>
                        <a:rPr b="0" lang="en-US" sz="900" spc="-1" strike="noStrike" u="sng">
                          <a:solidFill>
                            <a:srgbClr val="eb5f01"/>
                          </a:solidFill>
                          <a:uFillTx/>
                          <a:latin typeface="Futura Bk"/>
                          <a:hlinkClick r:id="rId5"/>
                        </a:rPr>
                        <a:t>naren@hp.c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Japan — </a:t>
                      </a: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Iekazu Okano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, </a:t>
                      </a:r>
                      <a:r>
                        <a:rPr b="0" lang="en-US" sz="900" spc="-1" strike="noStrike" u="sng">
                          <a:solidFill>
                            <a:srgbClr val="eb5f01"/>
                          </a:solidFill>
                          <a:uFillTx/>
                          <a:latin typeface="Futura Bk"/>
                          <a:hlinkClick r:id="rId6"/>
                        </a:rPr>
                        <a:t>Iekazu.okano@hp.c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 rot="16200000">
            <a:off x="-2866320" y="3707280"/>
            <a:ext cx="59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Hv"/>
              </a:rPr>
              <a:t>Quick reference card:</a:t>
            </a: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 HP and channel partner use only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Februar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3:06:50Z</dcterms:created>
  <dc:creator>Centers of Expertise, HP </dc:creator>
  <dc:description>© Copyright 1996, 1997–2006 Hewlett-Packard Development Company, L.P.; HP Restricted
</dc:description>
  <dc:language>en-US</dc:language>
  <cp:lastModifiedBy>BOB BURDEN</cp:lastModifiedBy>
  <cp:lastPrinted>2005-02-04T03:07:35Z</cp:lastPrinted>
  <dcterms:modified xsi:type="dcterms:W3CDTF">2008-01-17T18:36:15Z</dcterms:modified>
  <cp:revision>269</cp:revision>
  <dc:subject/>
  <dc:title>New Product Introduction Quick Reference Car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