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7B7-F1C5-4171-9134-E02CF1F4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3CC-EE8A-480E-A8FA-9678AED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43F-056D-43D2-A94F-03273E0A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D55-6C64-4EED-B635-74A34CE5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627-9BA9-4E43-BEE6-608A9FD6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933-41C5-4457-AF77-EBFDFB44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C2C-3676-4CB1-B29A-7C3D522A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6933-38B6-48BE-B3AB-8AAE1C15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0141-ECBD-47B8-BD64-CF0D824B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7FE3-FBDD-4EE6-9DED-EC49584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BB0-D3B1-4EC4-8F72-FBB6BB41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C8E5-4E7C-49B4-B85B-53B4294D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3D2D-0B7C-4793-8AED-6178B12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8440-CD84-4DCD-B84A-1ADDEF07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8291-13BF-4CA2-BAD6-CB1731AA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338A-4315-4401-937A-0025DA1B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2D74-8713-4695-85DE-FE3992C5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033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06760" y="10368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999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033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06760" y="3936600"/>
            <a:ext cx="276480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53B1-D80B-4EBC-B264-27AAC922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80C-B34C-4618-8FD6-1B8E46A4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24D-A4DE-4362-B7D2-AD003245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8160" y="97920"/>
            <a:ext cx="783108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CE0-1690-4336-AEE5-19571FD4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E51-B729-4301-8E7B-387EAC4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9880" y="39366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1A4-6E53-474D-A9D4-CF7D4061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96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9880" y="1036800"/>
            <a:ext cx="419004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960" y="3936600"/>
            <a:ext cx="8586720" cy="264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9A0-B433-45CE-AB75-9E79C26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1036800"/>
            <a:ext cx="8586720" cy="555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22492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F8B5-A600-4FCF-BFEC-DD61690D222B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27800" y="0"/>
            <a:ext cx="27162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5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9960" y="1044720"/>
            <a:ext cx="8586720" cy="55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633240" indent="-518760">
              <a:spcAft>
                <a:spcPts val="814"/>
              </a:spcAft>
              <a:buClr>
                <a:srgbClr val="6e6f72"/>
              </a:buClr>
              <a:buFont typeface="Futura Bk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10904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547640" indent="-342720">
              <a:spcAft>
                <a:spcPts val="814"/>
              </a:spcAft>
              <a:buClr>
                <a:srgbClr val="6e6f72"/>
              </a:buClr>
              <a:buFont typeface="Futura Bk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2004840" indent="-342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2004840" indent="-342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2750760" y="6638400"/>
            <a:ext cx="390852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e6f72"/>
                </a:solidFill>
                <a:latin typeface="Futura B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e6f72"/>
                </a:solidFill>
                <a:latin typeface="Futura B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8224920" y="6638400"/>
            <a:ext cx="761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6f72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448-B368-4349-814B-AD4A537D3113}" type="slidenum">
              <a:rPr b="0" lang="en-US" sz="1200" spc="-1" strike="noStrike">
                <a:solidFill>
                  <a:srgbClr val="6e6f72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p.com/servers/lightsout" TargetMode="External"/><Relationship Id="rId3" Type="http://schemas.openxmlformats.org/officeDocument/2006/relationships/hyperlink" Target="http://www.openview.hp.com/service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57040" y="838080"/>
          <a:ext cx="8886960" cy="5802480"/>
        </p:xfrm>
        <a:graphic>
          <a:graphicData uri="http://schemas.openxmlformats.org/drawingml/2006/table">
            <a:tbl>
              <a:tblPr/>
              <a:tblGrid>
                <a:gridCol w="2949840"/>
                <a:gridCol w="2973240"/>
                <a:gridCol w="2963880"/>
              </a:tblGrid>
              <a:tr h="60879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1. What is Annou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primary function of OpenView Transaction Analyzer (OTVA) is to help customers diagnose performance problems and bottlenecks in Internet applications. OTVA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utomatically tags and traces transactions for web and application servers as well as web brows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rom the client to the web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rom the web server to the application server and out to the datab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ransactions includ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TML/JavaScript transac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Web container transactions (JSP and Servlet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EJB container transac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atabase transac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easures current application performance against service-level requiremen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etailed data for problem analysis and reso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Reports on compliance and service-level requirements and generates alerts for viol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an be used as a stand-alone or in an integrated HP OpenView management environ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2. Customer 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Target aud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MB and enterprise customers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where datacenter or remote branch servers must be administered by individuals from their desks, homes, or travel lo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ny HP BladeSystem environment with iLO2-based ProLiant p-Class or c-Class server blades requiring headless remote control and manag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BladeSystem environments where advanced security, scalable virtual media, and power monitoring capabilities are required to complement iLO2 Standard Blade Edi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Where enterprise level directory services are required, authentication using Smart Card technology, and power consumption analysis is desirable at the individual bl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3. Probing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Do you need to cut travel cost and travel related productivity losses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By using "diagnose-before-dispatch," customers can avoid travel costs for onsite maintenance activities on remote systems.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Do you need reduced response time and increased remote server accessibilit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Remote control of virtual system resources enables customers to respond quickly to server issues, should they occur, minimizing support costs.</a:t>
                      </a: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Bk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Do you need to minimize operating, support costs, and time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MB and budget-conscious enterprise customers have cost-effective choices for remote management from LO100i Standard to LO100i Select and Advanced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Are you concerned with reducing the complexity of implementing SSH and SSL while insuring network securit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Lights-Out 100 Remote Management Card provides a secure remote management environment using industry standard Secure Sockets Layer (SSL) and Secure Shell (SSH) to secure public and private network communication with the Lights-Out 100 management processor using browser and command line access. network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Are you looking for secure KVM access to any device connected to the IP network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dvances in remote management hardware and software now aggregate access to KVM, serial, and power control devices under a single platform, providing logical and physical views of IT assets. Browser-based access allows administrators to work from any Internet-connected PC to manage vast hardware asse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4. Qualifying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Are you worried about the growing complexity of your data center or rack environment? Wh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33280" indent="-11880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sers can access the system and serial console, control system power, update firmware and software using virtual media and monitor system environmental conditions from a browser or command lin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Are you in need of a virtual media solution? Why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Lights-Out 100/100i Virtual Media allows server support to map floppy diskette or ISO 9660 CD image to a remote server to install or update firmware and software. Virtual Media saves time and increases efficiency by eliminating the need to visit the remote server to insert a floppy diskette or C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Do you need a virtual KVM over IP graphic console management solution? Why?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Lights-Out 100/100i remote graphical consoles provide KVM over IP performance giving system administrators a single console that is responsive and agile for both routine and emergency administration. Lights-Out 100/100i virtual KVM works with a standard browser and no additional software is required on the remote server or client system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5. Qualifying the Custo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Green light deals (must wi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eeds essential remote manag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s an SMB service provider offering remote server mainten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as distributed servers sites are supported by either centralized or remote IT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s implementing locked-down, limited access faciliti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Yellow light deals (more qualificati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s targeting travel cost and travel related productivity lo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eeds reduced response time and increased remote server accessi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eeds enhanced remote management features that improve overall operational efficiency while reducing IT management cos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Red light deals (walk away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he custom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oes not require remote managem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oes not have distributed serv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Lights Out 100i Advanced Pack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32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1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"/>
          <p:cNvSpPr/>
          <p:nvPr/>
        </p:nvSpPr>
        <p:spPr>
          <a:xfrm>
            <a:off x="6072120" y="3114720"/>
            <a:ext cx="142920" cy="1429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7" name=""/>
          <p:cNvSpPr/>
          <p:nvPr/>
        </p:nvSpPr>
        <p:spPr>
          <a:xfrm>
            <a:off x="6081840" y="4390920"/>
            <a:ext cx="142920" cy="142920"/>
          </a:xfrm>
          <a:prstGeom prst="ellipse">
            <a:avLst/>
          </a:prstGeom>
          <a:solidFill>
            <a:srgbClr val="f2a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"/>
          <p:cNvSpPr/>
          <p:nvPr/>
        </p:nvSpPr>
        <p:spPr>
          <a:xfrm>
            <a:off x="6081840" y="5543640"/>
            <a:ext cx="142920" cy="1429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97920"/>
            <a:ext cx="7831080" cy="74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Lights Out 100i Advanced Pack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0"/>
            <a:ext cx="257040" cy="6858000"/>
            <a:chOff x="0" y="0"/>
            <a:chExt cx="257040" cy="6858000"/>
          </a:xfrm>
        </p:grpSpPr>
        <p:sp>
          <p:nvSpPr>
            <p:cNvPr id="142" name=""/>
            <p:cNvSpPr/>
            <p:nvPr/>
          </p:nvSpPr>
          <p:spPr>
            <a:xfrm>
              <a:off x="0" y="914400"/>
              <a:ext cx="257040" cy="59436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0"/>
              <a:ext cx="257040" cy="847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257040" y="846000"/>
          <a:ext cx="8886960" cy="4888080"/>
        </p:xfrm>
        <a:graphic>
          <a:graphicData uri="http://schemas.openxmlformats.org/drawingml/2006/table">
            <a:tbl>
              <a:tblPr/>
              <a:tblGrid>
                <a:gridCol w="3257640"/>
                <a:gridCol w="2865600"/>
                <a:gridCol w="2763720"/>
              </a:tblGrid>
              <a:tr h="48880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6. Win the D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BIOS and OS text conso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Redirected serial console similar to iLO Virtual Serial 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Virtual floppy and CD im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lnSpc>
                          <a:spcPct val="90000"/>
                        </a:lnSpc>
                        <a:spcAft>
                          <a:spcPts val="51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nnect remote server at boot or run-time to floppy and images over a networ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Environmental heal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onitor fan, temp, pow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Secure browser &amp; command line interface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nfiguration, update and oper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Network connectivit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hared network por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hare the wire” with user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edicated network por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anagement port for increased secur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2" marL="4572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te: Support may vary by mod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User access contr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p to four available user name/password accou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HP SIM suppo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iscover, identify and launch LO 100 web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SMASH CLP compli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mmon interface to multi-vendor management processo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SSL &amp; SSH compli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ecure access and data prot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Bef>
                          <a:spcPts val="51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IPMI 2.0 complia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 lvl="1" marL="228600" indent="-114120">
                        <a:spcBef>
                          <a:spcPts val="51"/>
                        </a:spcBef>
                        <a:spcAft>
                          <a:spcPts val="275"/>
                        </a:spcAft>
                        <a:buClr>
                          <a:srgbClr val="6e6f72"/>
                        </a:buClr>
                        <a:buFont typeface="Futura B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ccessible via third party console appl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7. Complimentary 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Lights Out 100i Advanced Packs support ProLiant DL160 G5, DL165 G5, and DL185 G5 servers as well as improvements to virtual media with the addition of USB 2.0 and DVD-ROM support plus simplified virtual media (floppy and CD with no FTTP server requirements)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8. Order and Configuration Ru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 configure-to-order eligibility and model as well as SKU and configuration steps app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Available Packs and Purchase Inform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Lights-Out 100i Advanced P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Lights-Out 100i Select Pa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oftware option kit - 1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lexible quantity license k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lexible quantity license k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558e"/>
                          </a:solidFill>
                          <a:latin typeface="Futura Hv"/>
                        </a:rPr>
                        <a:t>Part numb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55339-B2 – 1HP LO100i Select Nm 1-Svr 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55340-B21 – HP LO100i Select Nm Flex Qty L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55341-B21 – HP LO100i Select Nm Tracking 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55342-B21 – HP LO100i Advanced Nm 1-Svr L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55343-B21 – HP LO100i Advanced Nm Flex Qty 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55344-B21 – HP LO100i Advanced Nm Tracking L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9090AAE – HP LO100i Select E-LT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T9091AAE – HP LO100i Advanced E-LT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558e"/>
                          </a:solidFill>
                          <a:latin typeface="Futura Bk"/>
                        </a:rPr>
                        <a:t>9. Further Information/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Lights Out 100i Advanced Pack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eb5f01"/>
                          </a:solidFill>
                          <a:uFillTx/>
                          <a:latin typeface="Futura Hv"/>
                          <a:hlinkClick r:id="rId2"/>
                        </a:rPr>
                        <a:t>http://www.hp.com/servers/lightsout</a:t>
                      </a:r>
                      <a:r>
                        <a:rPr b="0" lang="en-US" sz="1000" spc="-1" strike="noStrike">
                          <a:solidFill>
                            <a:srgbClr val="0071b5"/>
                          </a:solidFill>
                          <a:latin typeface="Futura Bk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Software Services:</a:t>
                      </a:r>
                      <a:br>
                        <a:rPr sz="900"/>
                      </a:br>
                      <a:r>
                        <a:rPr b="0" lang="en-US" sz="900" spc="-1" strike="noStrike" u="sng">
                          <a:solidFill>
                            <a:srgbClr val="eb5f01"/>
                          </a:solidFill>
                          <a:uFillTx/>
                          <a:latin typeface="Futura Hv"/>
                          <a:hlinkClick r:id="rId3"/>
                        </a:rPr>
                        <a:t>http://www.openview.hp.com/ser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Financial Servic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Hv"/>
                        </a:rPr>
                        <a:t>http://www.hp.com/go/financialser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Business Support Cen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http://h20000.www2.hp.com/bizsupport/TechSupport/Home.jsp?&amp;lang=en&amp;cc=us&amp;prodTypeId=15351&amp;prodSeriesId=3232017&amp;lang=en&amp;cc=us&amp;y=0DL320s&amp;x=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services and technical suppor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1b5"/>
                          </a:solidFill>
                          <a:latin typeface="Futura Hv"/>
                        </a:rPr>
                        <a:t>http://welcome.hp.com/country/us/en/wwcontact.htm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5874120" y="6534000"/>
            <a:ext cx="34160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  <a:ea typeface="Arial Unicode MS"/>
              </a:rPr>
              <a:t>© 2007 Hewlett-Packard Development Company, L.P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.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2866320" y="3707280"/>
            <a:ext cx="59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Quick reference card:</a:t>
            </a: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 HP and channel partner use onl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P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 May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3:06:50Z</dcterms:created>
  <dc:creator>HP Centers of Expertise, Sales and Pre-sales Technical Training </dc:creator>
  <dc:description>© Copyright 1996, 1997–2006 Hewlett-Packard Development Company, L.P.
</dc:description>
  <dc:language>en-US</dc:language>
  <cp:lastModifiedBy>RobertTe</cp:lastModifiedBy>
  <cp:lastPrinted>2005-02-04T03:07:35Z</cp:lastPrinted>
  <dcterms:modified xsi:type="dcterms:W3CDTF">2008-01-22T17:07:29Z</dcterms:modified>
  <cp:revision>218</cp:revision>
  <dc:subject/>
  <dc:title>New Product Introduction Quick Reference C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